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2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044800" y="1852560"/>
            <a:ext cx="64008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 16 : Swing VI Graph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ing a Very Simple Face (part 3 of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3" descr="savitch_c19d11_3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73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ing a Very Simple Face (part 4 of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3" descr="savitch_c19d11_4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68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ing a Very Simple Face (part 5 of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3" descr="savitch_c19d11_5of5"/>
          <p:cNvPicPr/>
          <p:nvPr/>
        </p:nvPicPr>
        <p:blipFill>
          <a:blip r:embed="rId1"/>
          <a:stretch/>
        </p:blipFill>
        <p:spPr>
          <a:xfrm>
            <a:off x="838080" y="1254240"/>
            <a:ext cx="7772400" cy="4943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7" descr="savitch_c19d12_1of4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179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3" descr="savitch_c19d12_2of4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44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3" descr="savitch_c19d12_3of4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51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3" descr="savitch_c19d12_4of4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47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awing Ov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oval is drawn by the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rawO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arguments specify the location, width, and height of the smallest rectangle that can enclose the ov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g.drawOval(100, 50, 300, 20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ircle is a special case of an oval in which the width and height of the rectangle are eq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g.drawOval(X_FACE, Y_FACE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FACE_DIAMETER, FACE_DIAMETER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ing a Happy Face (Part 1 of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7" descr="savitch_c19d13_1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755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ing a Happy 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3" descr="savitch_c19d13_2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778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9160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Graphics Cla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rdinate System for Graphic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drawing objects on the screen, Java uses a coordinate system where the origin point (0,0) is at the upper-left corner of the screen area used for dra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x-coordinate (horizontal) is positive and increasing to the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y- coordinate(vertical) is positive and increasing d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coordinates are normally posi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s and sizes are in pix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area used for drawing is typically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ing a Happy 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3" descr="savitch_c19d13_3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444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ing a Happy 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3" descr="savitch_c19d13_4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174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ing a Happy Face (Part 5 of 5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3" descr="savitch_c19d13_5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232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awing Ar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s are described by giving an oval, and then specifying a portion of it to be used for the a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following statement draws the smile on the happy fac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g.drawArc(X_MOUTH, Y_MOUTH, MOUTH_WIDTH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MOUTH_HEIGHT, MOUTH_START_ANGLE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MOUTH_ARC_SWEEP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argument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MOUTH_WIDTH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MOUTH_HEIGH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termine the size of the bounding box, while the argument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X_MOU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Y_MOU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termine its lo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st two arguments specify the portion made vis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ying an Arc (Part 1 of 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10" descr="savitch_c19d14_1of2"/>
          <p:cNvPicPr/>
          <p:nvPr/>
        </p:nvPicPr>
        <p:blipFill>
          <a:blip r:embed="rId1"/>
          <a:srcRect l="0" t="0" r="0" b="1836"/>
          <a:stretch/>
        </p:blipFill>
        <p:spPr>
          <a:xfrm>
            <a:off x="838080" y="1039680"/>
            <a:ext cx="7772400" cy="5432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ying an Arc (Part 2 of 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3" descr="savitch_c19d14_2of2"/>
          <p:cNvPicPr/>
          <p:nvPr/>
        </p:nvPicPr>
        <p:blipFill>
          <a:blip r:embed="rId1"/>
          <a:stretch/>
        </p:blipFill>
        <p:spPr>
          <a:xfrm>
            <a:off x="838080" y="1011240"/>
            <a:ext cx="7772400" cy="515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nded Rectang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ounded rectang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 rectangle whose corners have been replaced by arcs so that the corners are roun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g.drawRoundRect(x, y, width, height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                   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arcWidth, arcHeigh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argument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wid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heigh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termine a regular rectangle in the usual w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last two argument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cWid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cHeigh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specify the arcs that will be used for the corn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ch corner is replaced with an quarter of an oval that i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cWid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ixels wide 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cHeigh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ixels hig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cWid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rcHeigh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re equal, the corners will be arcs of circ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ounded Rectang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5" descr="D18_15"/>
          <p:cNvPicPr/>
          <p:nvPr/>
        </p:nvPicPr>
        <p:blipFill>
          <a:blip r:embed="rId1"/>
          <a:stretch/>
        </p:blipFill>
        <p:spPr>
          <a:xfrm>
            <a:off x="838080" y="1282680"/>
            <a:ext cx="7896240" cy="3822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8_15"/>
          <p:cNvPicPr/>
          <p:nvPr/>
        </p:nvPicPr>
        <p:blipFill>
          <a:blip r:embed="rId2"/>
          <a:stretch/>
        </p:blipFill>
        <p:spPr>
          <a:xfrm>
            <a:off x="838080" y="1600200"/>
            <a:ext cx="6629400" cy="317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Pan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but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not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fore, they use different methods to paint the sc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gures can be drawn on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placed in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defining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Pane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lass in this way,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aintCompon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 is used instead of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a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wise the details are the same as those for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8"/>
          <p:cNvGraphicFramePr/>
          <p:nvPr/>
        </p:nvGraphicFramePr>
        <p:xfrm>
          <a:off x="1509840" y="1463760"/>
          <a:ext cx="6162480" cy="45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463760"/>
                    <a:ext cx="616248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13"/>
          <p:cNvSpPr/>
          <p:nvPr/>
        </p:nvSpPr>
        <p:spPr>
          <a:xfrm>
            <a:off x="1434960" y="19368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Pan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rdinate System for Graphic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oint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x,y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locat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ixels in from the left edge of the screen, and dow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ixels from the top of the scre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placing a rectangle on the screen, the location of its upper-left corner is specifi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placing a figure other than a rectangle on the screen, Java encloses the figure in an imaginary rectangle, called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ounding 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 positions the upper-left corner of this rectang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4"/>
          <p:cNvGraphicFramePr/>
          <p:nvPr/>
        </p:nvGraphicFramePr>
        <p:xfrm>
          <a:off x="1257480" y="1619280"/>
          <a:ext cx="6276960" cy="40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619280"/>
                    <a:ext cx="627696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7"/>
          <p:cNvSpPr/>
          <p:nvPr/>
        </p:nvSpPr>
        <p:spPr>
          <a:xfrm>
            <a:off x="1434960" y="19368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Pan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savitch_c19d16_4of4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7512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1434960" y="19368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Pan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 Drawings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pa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pa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should be invoked when the graphics content of a window is chang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repa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 takes care of some overhead, and then invokes the metho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a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which redraws the sc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hough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repa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 must be explicitly invoked, it is already def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a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, in contrast, must often be defined, but is not explicitly invo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ction Drawing (Part 1 of 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8" descr="savitch_c19d17_1of7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247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ction Drawing (Part 2 of 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3" descr="savitch_c19d17_2of7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ction Drawing (Part 3 of 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3" descr="savitch_c19d17_3of7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573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ction Drawing (Part 4 of 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3" descr="savitch_c19d17_4of7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816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ction Drawing (Part 5 of 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3" descr="savitch_c19d17_5of7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506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ction Drawing (Part 6 of 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3" descr="savitch_c19d17_6of7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514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ction Drawing (Part 7 of 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3" descr="savitch_c19d17_7of7"/>
          <p:cNvPicPr/>
          <p:nvPr/>
        </p:nvPicPr>
        <p:blipFill>
          <a:blip r:embed="rId1"/>
          <a:stretch/>
        </p:blipFill>
        <p:spPr>
          <a:xfrm>
            <a:off x="939960" y="1557360"/>
            <a:ext cx="7772400" cy="4313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reen Coordinat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Group 7"/>
          <p:cNvGrpSpPr/>
          <p:nvPr/>
        </p:nvGrpSpPr>
        <p:grpSpPr>
          <a:xfrm>
            <a:off x="838080" y="1600200"/>
            <a:ext cx="8020080" cy="4243320"/>
            <a:chOff x="838080" y="1600200"/>
            <a:chExt cx="8020080" cy="4243320"/>
          </a:xfrm>
        </p:grpSpPr>
        <p:pic>
          <p:nvPicPr>
            <p:cNvPr id="88" name="Picture 5" descr="D18_10"/>
            <p:cNvPicPr/>
            <p:nvPr/>
          </p:nvPicPr>
          <p:blipFill>
            <a:blip r:embed="rId1"/>
            <a:stretch/>
          </p:blipFill>
          <p:spPr>
            <a:xfrm>
              <a:off x="838080" y="1600200"/>
              <a:ext cx="8020080" cy="42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6" descr="18_10"/>
            <p:cNvPicPr/>
            <p:nvPr/>
          </p:nvPicPr>
          <p:blipFill>
            <a:blip r:embed="rId2"/>
            <a:stretch/>
          </p:blipFill>
          <p:spPr>
            <a:xfrm>
              <a:off x="1009800" y="2057400"/>
              <a:ext cx="6781680" cy="3551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"/>
          <p:cNvSpPr/>
          <p:nvPr/>
        </p:nvSpPr>
        <p:spPr>
          <a:xfrm>
            <a:off x="228600" y="4249800"/>
            <a:ext cx="7086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to do at hom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ad section 18.3 pages 1068-108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most all Swing and Swing-related components and containers have a method call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a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a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ws the component or container on the scre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is already defined, and is called automatically when the figure is displayed on the sc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ever, it must be redefined in order to draw geometric figures like circles and box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redefined, always include the following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uper.paint(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container and component that can be drawn on the screen has an associat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lass is an abstract class found in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ava.aw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object has data specifying what area of the screen the component or container co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 for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pecifies that drawing takes place inside the borders of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object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used as the calling object for a drawing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drawing will then take place inside the area of the screen specified by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a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a paramet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a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 is invoked,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replaced by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 associated with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fore, the figures are drawn inside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ing a Very Simple Face (part 1 of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7" descr="savitch_c19d11_1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81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ing a Very Simple Face (part 2 of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3" descr="savitch_c19d11_2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CoreI5</cp:lastModifiedBy>
  <dcterms:modified xsi:type="dcterms:W3CDTF">2012-03-17T04:04:11Z</dcterms:modified>
  <cp:revision>78</cp:revision>
  <dc:subject/>
  <dc:title>PowerPoint Presentation</dc:title>
</cp:coreProperties>
</file>