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java.sun.com/docs/books/tutorial/uiswing/events/Beeper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044800" y="214164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13 : Swing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Driven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5040" y="1346040"/>
            <a:ext cx="81774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-driven programming is very different from most programming seen up until n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far, programs have consisted of a list of statements executed in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at order changed, whether or not to perform certain actions (such as repeat statements in a loop, branch to another statement, or invoke a method) was controlled by the logic of the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vent-driven programming, objects are created that can fire events, and listener objects are created that can react to the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gram itself no longer determines the order in which things can hap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ead, the events determine the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mple window can consist of an object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 includes a border and the usual three buttons for minimizing, changing the size of, and closing th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JFrame firstWindow = new JFram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1" lang="en-US" sz="20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have components added to it, such as buttons, menus, and text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components can be programmed for 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firstWindow.add(endButto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can be made visible using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Visi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firstWindow.setVisible(tr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rst Swing Demon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762120" y="1344600"/>
          <a:ext cx="524664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44600"/>
                    <a:ext cx="524664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1"/>
          <p:cNvGraphicFramePr/>
          <p:nvPr/>
        </p:nvGraphicFramePr>
        <p:xfrm>
          <a:off x="3646440" y="4829040"/>
          <a:ext cx="4332240" cy="18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6440" y="4829040"/>
                    <a:ext cx="43322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3"/>
          <p:cNvSpPr/>
          <p:nvPr/>
        </p:nvSpPr>
        <p:spPr>
          <a:xfrm>
            <a:off x="6186600" y="286236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SwingDemo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101600" y="572436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ingListener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5896080" y="1366920"/>
            <a:ext cx="214200" cy="3441600"/>
          </a:xfrm>
          <a:custGeom>
            <a:avLst/>
            <a:gdLst>
              <a:gd name="textAreaLeft" fmla="*/ 0 w 214200"/>
              <a:gd name="textAreaRight" fmla="*/ 150480 w 214200"/>
              <a:gd name="textAreaTop" fmla="*/ 143280 h 3441600"/>
              <a:gd name="textAreaBottom" fmla="*/ 3298320 h 34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3486240" y="4937040"/>
            <a:ext cx="182520" cy="1781280"/>
          </a:xfrm>
          <a:custGeom>
            <a:avLst/>
            <a:gdLst>
              <a:gd name="textAreaLeft" fmla="*/ 53640 w 182520"/>
              <a:gd name="textAreaRight" fmla="*/ 182880 w 182520"/>
              <a:gd name="textAreaTop" fmla="*/ 74160 h 1781280"/>
              <a:gd name="textAreaBottom" fmla="*/ 1707120 h 17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savitch_c17d02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86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49280" y="223560"/>
            <a:ext cx="779472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rst Swing Demonstration (Part 4 of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13840"/>
            <a:ext cx="7986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t 1 of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" descr="savitch_c17d03_1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53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savitch_c17d03_2of3"/>
          <p:cNvPicPr/>
          <p:nvPr/>
        </p:nvPicPr>
        <p:blipFill>
          <a:blip r:embed="rId1"/>
          <a:srcRect l="0" t="1750" r="0" b="2001"/>
          <a:stretch/>
        </p:blipFill>
        <p:spPr>
          <a:xfrm>
            <a:off x="838080" y="1587600"/>
            <a:ext cx="7772400" cy="4883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13840"/>
            <a:ext cx="84358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Fr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t 1 of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9880" y="213840"/>
            <a:ext cx="79722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thods in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t 3 of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savitch_c17d03_3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7108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xels and the Relationship between Resolution an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e smallest unit of space on a sc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th the size and position of Swing objects are measured in pix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more pixels on a screen, the greater the screen resolu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high-resolution screen of fixed size has many pix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fore, each one is very sma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low-resolution screen of fixed size has fewer pix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fore, each one is much lar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, a two-pixel figure on a low-resolution screen will look larger than a two-pixel figure on a high-resolution scre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31392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Forgetting to Program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-Window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lines from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rstSwingDem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 ensure that when the user clicks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lose-window butt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nothing happe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firstWindow.setDefaultCloseOperation(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JFrame.DO_NOTHING_ON_CLOS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is were not set, the default action would b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.HIDE_ON_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would make the window invisible and inaccessible, but would not end the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fore, given this scenario, there would be no way to click the "Click to end program" 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the close-window and other two accompanying buttons are part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, and not separate butt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t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is created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can be added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rgument to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structor is the string that appears on the button when it is display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JButton endButton = new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JButton("Click to end program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firstWindow.add(endButto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ng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 and Liste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mple wind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 Listeners and Action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 Listeners and Action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ing a button fires an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vent object is "sent" to another object called a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means that a method in the listener object is invoked automatical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rthermore, it is invoked with the event object as its arg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order to set up this relationship, a GUI program must do two th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must specify, for each button, what objects are its listeners, i.e., it must register the listen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must define the methods that will be invoked automatically when the event is sent to the liste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 Listeners and Action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ndingListener buttonEar = new EndingListen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ndButton.addActionListener(buttonEar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ve, a listener object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reated and registered as a listener for the button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a button fires events known a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ction even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which are handled by listeners known a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ction listen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 Listeners and Action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kinds of components require different kinds of listener classes to handle the events they f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ction listener is an object whose class implement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face has one method heading that must be impleme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 Listeners and Action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ndingListen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defines it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as ab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the user clicks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ndButt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n action event is sent to the action listener for that 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ndingListen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bject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the action listener for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action listener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receives the action event as the parameter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its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thod, which is automatically invok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ust be received, even if it is not u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9952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Changing the Heading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is implemented in an action listener, its header must be the one specified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already determined, and may not be chang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even a throws clause may be ad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ly thing that can be changed is the name of the parameter, since it is just a placehol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ther it is called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something else does not matter, as long as it is used consistently within the body of the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:  Ending a Swing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 programs are often based on a kind of infinite lo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windowing system normally stays on the screen until the user indicates that it should go a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user never asks the windowing system to go away, it will never go aw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order to end a GUI program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ex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ust be used when the user asks to end the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must be explicitly invoked, or included in some library code that is execu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wise, a Swing program will not end after it has executed all the code in the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17 pages 966-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ory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4" descr="savitch_c17d02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Sw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Jav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WT (Abstract Window Toolki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 is the original Java package for do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U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windowing system that interacts with th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wing package is an improved version of the 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does not completely replace the AW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WT classes are replaced by Swing classes, but other AWT classes are needed when using S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ng GUIs are designed using a form of object-oriented programming 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-driven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-driven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programming style that uses a signal-and-response approach to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 that acts as a signal to another object know a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nding of an even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ring the 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bject that fires the event is often a GUI component, such as a button that has been cli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5044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ener object performs some action in response to the 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iven component may have any number of liste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listener may respond to a different kind of event, or multiple listeners might may respond to the same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 Hand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ener object has methods that specify what will happen when events of various kinds are received by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methods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 handl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mer using the listener object will define or redefine these event-handler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 Firing and an Event Liste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10" descr="savitch_c17d0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action listener"/>
          <p:cNvPicPr/>
          <p:nvPr/>
        </p:nvPicPr>
        <p:blipFill>
          <a:blip r:embed="rId1"/>
          <a:stretch/>
        </p:blipFill>
        <p:spPr>
          <a:xfrm>
            <a:off x="1488960" y="4740120"/>
            <a:ext cx="5486400" cy="706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lick this figure to run the applet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01720" y="1968480"/>
            <a:ext cx="4496040" cy="1798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3-09T09:52:40Z</dcterms:modified>
  <cp:revision>88</cp:revision>
  <dc:subject/>
  <dc:title>PowerPoint Presentation</dc:title>
</cp:coreProperties>
</file>