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22 : Array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of Adding to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lement can be added at an already occupied list position by using the two-parameter vers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auses the new element to be placed at the index specified, and every other member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be moved up by on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of Adding to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-argument version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also be used to add an element at the first unused position (if that position is know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individual element can be changed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only reset an element at an index that already contains an e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ddition,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used to determine how many elements are stored in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ools for manipulating arrays consist only of the square brackets and the instanc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however, come with a selection of powerful methods that can do many of the things for which code would have to be written in order to do them using 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3" descr="savitch_c14d01_01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savitch_c14d01_02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78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4674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savitch_c14d01_03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70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6960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3" descr="savitch_c14d01_04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5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3" descr="savitch_c14d01_05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4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" descr="savitch_c14d01_06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6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3" descr="savitch_c14d01_07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04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lass in the standard Java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arrays, which have a fixed length once they have been created,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object that can grow and shrink while your program is ru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rves the same purpose as an array, except that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change length while the program is ru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4674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savitch_c14d01_08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36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3" descr="savitch_c14d01_09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1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13840"/>
            <a:ext cx="75438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savitch_c14d01_10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6960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savitch_c14d01_11of1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7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"For Each"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an example of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with version 5.0, Java has added a new kind of for loop called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-ea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hanced 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kind of loop has been designed to cycle through all the elements in a collection (like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13840"/>
            <a:ext cx="78487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or-each Loop Used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3" descr="savitch_c14d02_1of3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4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13840"/>
            <a:ext cx="79246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or-each Loop Used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3" descr="savitch_c14d02_2of3"/>
          <p:cNvPicPr/>
          <p:nvPr/>
        </p:nvPicPr>
        <p:blipFill>
          <a:blip r:embed="rId1"/>
          <a:stretch/>
        </p:blipFill>
        <p:spPr>
          <a:xfrm>
            <a:off x="838080" y="1600200"/>
            <a:ext cx="6243840" cy="447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13840"/>
            <a:ext cx="78487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or-each Loop Used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2400" y="1509840"/>
            <a:ext cx="7639200" cy="383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:  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imTo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Sav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utomatically increases its capacity when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the capacity may increase beyond what a program requi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ddition, although an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grows automatically when needed, it does not shrink automatical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 a large amount of excess capacity, an invocation of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imToSiz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ll shrink the capacity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own to the size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5480" y="366480"/>
            <a:ext cx="75358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Makes a Shallow C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deep copy of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eeded, using the clone method is not su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oking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produces a shallow copy, not a deep 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rder to make a deep copy, it must be possible to make a deep copy of objects of the bas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n a deep copy of each element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be created and placed into a new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659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using an array as a private instance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is hidden array is full, a new larger hidden array is created and the data is transferred to this new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section 14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always use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 of an array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less efficient than an arr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does not have the convenient square bracket n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ase type of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ust be a class type (or other reference type):  it cannot be a primitive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last point is less of a problem now that Java provides automatic boxing and unboxing of primiti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rder to make use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, it must first be imported from the packag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reated and named in the same way as object of any class, except that you specify the base type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&lt;BaseType&gt; aList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w ArrayList&lt;BaseType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initial capacity can be specified when creating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s w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following code creates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hat stores objects of the base typ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ith an initial capacity of 20 ite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ArrayList&lt;String&gt; list =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new ArrayList&lt;String&gt;(20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ing an initial capacity does not limit the size to which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eventually g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the base type of an ArrayList is specified as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s used to set an element for the first time in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st.add("somethin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 nam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verloa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also a two argument version that allows an item to be added at any currently used index position or at the first unused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used to find out how many indices already have elements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nt howMany = list.siz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used to replace any existing element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used to access the value of any existing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list.set(index, "something els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ring thing = list.get(inde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of Adding to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s usually used to place an element in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sition for the first time (at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e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imples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has a single parameter for the element to be added, and adds an element at the next unused index,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4-29T03:04:24Z</dcterms:modified>
  <cp:revision>20</cp:revision>
  <dc:subject/>
  <dc:title>PowerPoint Presentation</dc:title>
</cp:coreProperties>
</file>