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CA3-8FFE-457B-8658-E5407FEB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2E0-1E86-43F7-BFED-A6A98CF7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FEA-B277-4B92-84E7-801B10B8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847-3379-43A6-B734-18812042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79A-8B87-46DC-B0DC-8D361CAC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703D-B6ED-4834-93AD-1934790C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68C-5EF3-420D-8989-A634DEAB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198-DCB0-487B-86FE-36771B5B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15D-EC81-4AAF-8EC3-092B8774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737E-50D5-4162-A9A2-08EE3AAC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CA2-9D5C-40AE-9F84-472E7FC3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314-A8BF-491C-8453-297D9522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6480"/>
          <a:ext cx="9144000" cy="686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648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818C-E175-4024-AA39-4511183944A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0" y="838080"/>
          <a:ext cx="9144000" cy="76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838080"/>
                    <a:ext cx="91440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680" y="2728440"/>
            <a:ext cx="609624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1841400"/>
            <a:ext cx="723888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cture 11 : Gentle Introduction to Computer Graph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057400" y="54100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ed 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David Brogan’s “Introduction to Computer Graphics” Course Slides, University of Virgini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Jack van Wijk’s “Computer Graphics” Course Slides, University of Eindhoven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s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ajor application that we will be dealing with extensively in the next coming lectures is that of developing graphical 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t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xtbo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259160" y="2438280"/>
          <a:ext cx="4808520" cy="43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59160" y="2438280"/>
                    <a:ext cx="480852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2000" y="228600"/>
            <a:ext cx="5435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Computer Graphic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 graphics: generating 2D images of a 3D world represented in a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task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mode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shape) creating and representing the geometry of objects in the 3D wor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rend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light, perspective) generating 2D images of the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ani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movement) describing how objects change i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presentations in graph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ector 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Image is represented by continuous geometric objects: lines, curve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ster 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Image is represented as a rectangular grid of colored pix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PIXEL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PIctu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EL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aster graph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age processing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ometric Transformation: loss of infor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latively high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terms of the number of pix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istic images, textures, 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: Paint, PhotoShop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Image Processing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ge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 Denois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095880" y="16765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572000" y="3733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6095880" y="3733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ector graph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phics objects: geometry + co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latively low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terms of the number of graphic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ometric transformation possible without loss of information (zoom, rotate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: PowerPoint, CorelDraw, SVG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able Vector Graphics (SV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?xml version="1.0" standalone="no"?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!DOCTYPE svg PUBLIC "-//W3C//DTD SVG 1.1//EN"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http://www.w3.org/Graphics/SVG/1.1/DTD/svg11.dtd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svg width="12cm" height="4cm" viewBox="0 0 1200 400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mlns="http://www.w3.org/2000/svg" version="1.1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esc&gt;Example polygon01 - star and hexagon&lt;/desc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!-- Show outline of canvas using 'rect' element --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rect x="1" y="1" width="1198" height="398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l="none" stroke="blue" stroke-width="2" /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olygon fill="red" stroke="blue" stroke-width="10"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ints="350,75  379,161 469,161 397,2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23,301 350,250 277,301 303,2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31,161 321,161" /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olygon fill="lime" stroke="blue" stroke-width="10"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ints="850,75  958,137.5 958,262.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50,325 742,262.6 742,137.5" /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svg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Example polygon01 - star and hexagon"/>
          <p:cNvPicPr/>
          <p:nvPr/>
        </p:nvPicPr>
        <p:blipFill>
          <a:blip r:embed="rId2"/>
          <a:stretch/>
        </p:blipFill>
        <p:spPr>
          <a:xfrm>
            <a:off x="3581280" y="5029200"/>
            <a:ext cx="40579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2320920"/>
            <a:ext cx="2133720" cy="1981080"/>
          </a:xfrm>
          <a:prstGeom prst="flowChartProcess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657600"/>
            <a:ext cx="2361960" cy="228600"/>
          </a:xfrm>
          <a:prstGeom prst="rightArrow">
            <a:avLst>
              <a:gd name="adj1" fmla="val 50000"/>
              <a:gd name="adj2" fmla="val 258307"/>
            </a:avLst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276000" y="2743200"/>
            <a:ext cx="2361960" cy="228600"/>
          </a:xfrm>
          <a:prstGeom prst="rightArrow">
            <a:avLst>
              <a:gd name="adj1" fmla="val 50000"/>
              <a:gd name="adj2" fmla="val 258307"/>
            </a:avLst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2320920"/>
            <a:ext cx="2133360" cy="1981080"/>
          </a:xfrm>
          <a:prstGeom prst="flowChartProcess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h.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47640" y="1902240"/>
            <a:ext cx="2283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attern recogn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1960" y="3921120"/>
            <a:ext cx="2190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Synthesi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nde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4572000"/>
            <a:ext cx="1295280" cy="68580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4572000"/>
            <a:ext cx="1295280" cy="68580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2000" y="54100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8840" y="541008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705720" y="2895480"/>
          <a:ext cx="102852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2895480"/>
                    <a:ext cx="10285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281240" y="2895480"/>
            <a:ext cx="1004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ing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uter scienc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algorithms, data structures, software engineering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thematics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geometry, numerical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hysics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Optics, mechanic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sychology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Colour, percep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t and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124080" y="27432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s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Computer 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ations in 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ing Discip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s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0074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ertainment: Cin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90320" y="6293520"/>
            <a:ext cx="23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xar: Monster’s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93640" y="3297240"/>
            <a:ext cx="3051360" cy="300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886200" y="2819520"/>
            <a:ext cx="5181480" cy="2469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62160" y="533412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ug’s Lif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ix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040" y="75960"/>
            <a:ext cx="7569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s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96760" y="1519200"/>
            <a:ext cx="688356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al Visu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64280" y="1600200"/>
            <a:ext cx="1467000" cy="4800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85800" y="2286000"/>
            <a:ext cx="5037120" cy="4205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71800" y="6506280"/>
            <a:ext cx="27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: Image-Guided Surgery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6493680" y="5049720"/>
            <a:ext cx="21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e4a8"/>
                </a:solidFill>
                <a:latin typeface="Arial"/>
              </a:rPr>
              <a:t>The Visible Human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4570200" cy="3381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2360" y="75960"/>
            <a:ext cx="7569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s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6400" y="1519200"/>
            <a:ext cx="688356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ientific Visu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961240" y="1981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569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s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67788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Aided Design (C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123920" y="2352600"/>
            <a:ext cx="1847880" cy="1609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304920" y="4114800"/>
            <a:ext cx="1904760" cy="2095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rcRect l="4949" t="14908" r="2173" b="6655"/>
          <a:stretch/>
        </p:blipFill>
        <p:spPr>
          <a:xfrm>
            <a:off x="4343400" y="1828800"/>
            <a:ext cx="4552920" cy="3076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2362320" y="4114800"/>
            <a:ext cx="285732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s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581280" y="1219320"/>
          <a:ext cx="4741920" cy="468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1219320"/>
                    <a:ext cx="47419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846000" y="6095880"/>
            <a:ext cx="76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ing Effective Step-By-Step Assembly Instruction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Maneesh Agrawala et. 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2360" y="75960"/>
            <a:ext cx="7569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s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6400" y="1519200"/>
            <a:ext cx="688356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772040" y="44190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e4a8"/>
                </a:solidFill>
                <a:latin typeface="Arial"/>
              </a:rPr>
              <a:t>GT Rac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22280" y="3654360"/>
            <a:ext cx="4067280" cy="2846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675320" y="811080"/>
            <a:ext cx="4066920" cy="2846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702320" y="3654360"/>
            <a:ext cx="4039920" cy="2828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581280" y="655236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yphony Digital: Gran Turismo 3, A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s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185840" y="1676520"/>
            <a:ext cx="6578640" cy="4354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6400" y="6172200"/>
            <a:ext cx="19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s Atari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Atar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5T05:31:49Z</dcterms:created>
  <dc:creator>Quazi Abidur Rahman</dc:creator>
  <dc:description/>
  <dc:language>en-US</dc:language>
  <cp:lastModifiedBy>Administrator</cp:lastModifiedBy>
  <dcterms:modified xsi:type="dcterms:W3CDTF">2010-02-19T11:20:27Z</dcterms:modified>
  <cp:revision>82</cp:revision>
  <dc:subject/>
  <dc:title>Slide 1</dc:title>
</cp:coreProperties>
</file>