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133720" y="1898640"/>
            <a:ext cx="6400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9 : Exception Hand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36008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ception ha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ance variable that contains some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tring typically identifies the reason for the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call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.getMessage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this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. . . // method co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throw new Exception(</a:t>
            </a:r>
            <a:r>
              <a:rPr b="1" i="1" lang="en-US" sz="1200" spc="-1" strike="noStrike">
                <a:solidFill>
                  <a:srgbClr val="034ca1"/>
                </a:solidFill>
                <a:latin typeface="Courier New"/>
              </a:rPr>
              <a:t>StringArgument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catch(Exception 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String message = e.getMessage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System.out.println(message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4ca1"/>
                </a:solidFill>
                <a:latin typeface="Courier New"/>
              </a:rPr>
              <a:t>}  . . 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ng Exception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can throw an exception object of any exceptio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 of using a predefined class,  exception classes can be programmer-def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can be tailored to carry the precise kinds of information needed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ifferent type of exception can be defined to identify each different exceptional sit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ception class to be defined must be a derived class of some already defined exceptio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mer-Defined Exception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D9_3"/>
          <p:cNvPicPr/>
          <p:nvPr/>
        </p:nvPicPr>
        <p:blipFill>
          <a:blip r:embed="rId1"/>
          <a:stretch/>
        </p:blipFill>
        <p:spPr>
          <a:xfrm>
            <a:off x="990720" y="1486080"/>
            <a:ext cx="748656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4"/>
          <p:cNvGraphicFramePr/>
          <p:nvPr/>
        </p:nvGraphicFramePr>
        <p:xfrm>
          <a:off x="1509840" y="1082520"/>
          <a:ext cx="5775120" cy="577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082520"/>
                    <a:ext cx="577512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grammer-Defined Exception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er-Defined Exception Class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classes may be programmer-defined, but every such class must be a derived class of an already existing exception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be used as the base class, unless another exception class would be more sui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two constructors should be defined, sometimes m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ception class should allow for the fact that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inheri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r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164960"/>
            <a:ext cx="75438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ll predefined exception classes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the string that is passed to its constructor as an argu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 it will return a default string if no argument is used with the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behavior must be preserved in all programmer-defined exception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structor must be included having a string parameter whose body begins with a call to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all to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ust use the parameter as its arg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no-argument constructor must also be included whose body begins with a call to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call to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ust use a default string as its argu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D9_3"/>
          <p:cNvPicPr/>
          <p:nvPr/>
        </p:nvPicPr>
        <p:blipFill>
          <a:blip r:embed="rId1"/>
          <a:stretch/>
        </p:blipFill>
        <p:spPr>
          <a:xfrm>
            <a:off x="609480" y="4187880"/>
            <a:ext cx="578196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517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can potentially throw any number of exception values, and they can be of differing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ny one execution of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, at most one exception can be thrown (since a throw statement ends the execution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different types of exception values can be thrown on different executions of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types of exceptions can be caught by placing more than on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after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number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s can be included, but they must be placed in the correct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1781280" y="1077840"/>
          <a:ext cx="608940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077840"/>
                    <a:ext cx="60894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ch the More Specific Exception 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249200"/>
            <a:ext cx="8074080" cy="527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catching multiple exceptions, the order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s is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n exception is thrown 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s are examined in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irst one that matches the type of the exception thrown is the one that is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 (Exception 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 (NegativeNumberException 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gativeNumberExcep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be caught by the firs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before ever reaching the second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atch block f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ll never be used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correct ordering, simply reverse the two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4"/>
          <p:cNvGraphicFramePr/>
          <p:nvPr/>
        </p:nvGraphicFramePr>
        <p:xfrm>
          <a:off x="1407960" y="1371600"/>
          <a:ext cx="636768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7960" y="1371600"/>
                    <a:ext cx="636768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owing an Exception in a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1198440" y="1281240"/>
          <a:ext cx="674712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1281240"/>
                    <a:ext cx="674712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Exception Hand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owing an Exception in a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it makes sense to throw an exception in a method, but not catch it in the same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programs that use a method should just end if an exception is thrown, and other programs should do something e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such cases, the program using the method should  enclose the method invocation 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, and catch the exception 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that foll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, the method itself would not includ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it would have to include a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cla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ing Exceptions in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can throw more than one type of exception, then separate the exception types by com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void aMethod()</a:t>
            </a: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nException, Anoth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throws an exception and does not catch it, then the method invocation end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in Derived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 defined in a superclass can be overridden in a sub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uch a method is overridden, you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't add any exceptions to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use of the overriding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delete some exceptions from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use of the overriding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place an exception class by any descendent exception class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use of the overriding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tch or Declare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ordinary exceptions that might be thrown within a method must be accounted for in one of two way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de that can throw an exception is placed with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, and the possible exception is caught 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within the same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ossible exception can be declared at the start of the method definition by placing the exception class name in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u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ed and Unchecked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s that are subject to the catch or declare rule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ompiler checks to see if they are accounted for with either a catch block or a throws cla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asses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Throwab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and all descendants of the class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checked excep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ther exceptions ar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nche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all its descendant classes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rror class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rror classes a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bject to the Catch or Declare Ru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687680" y="4044960"/>
          <a:ext cx="518472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7680" y="4044960"/>
                    <a:ext cx="518472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of Throwabl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D9_10"/>
          <p:cNvPicPr/>
          <p:nvPr/>
        </p:nvPicPr>
        <p:blipFill>
          <a:blip r:embed="rId1"/>
          <a:stretch/>
        </p:blipFill>
        <p:spPr>
          <a:xfrm>
            <a:off x="990720" y="1247760"/>
            <a:ext cx="7653240" cy="548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88520" y="1371240"/>
            <a:ext cx="8256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contains code to be executed whether or not an exception is thrown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used, is placed afte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following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l syntax is as follows:</a:t>
            </a:r>
            <a:br>
              <a:rPr sz="2200"/>
            </a:br>
            <a:br>
              <a:rPr sz="1000"/>
            </a:b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t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ExceptionClass1 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/* Other catches –if any- */</a:t>
            </a: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Courier New"/>
                <a:ea typeface="Courier New"/>
              </a:rPr>
              <a:t>fina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Code to be executed whether or not an exception is thrown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ugh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8520" y="1371240"/>
            <a:ext cx="8256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ee possibilities for cod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y-catch-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is ru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runs to the end with no exception thrown, in this cas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is executed after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exception is throw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and is caught in one of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s. In this case,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is executed after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is exec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exception is throw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and there is no match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in the method to catch the exception. In this case, the method invocation ends and the exception object is thrown to the enclosing method. However,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 is executed before the method e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you can't account for this last case simply by placing code after the catch blo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8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7 pages 546-58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2330280" y="1127160"/>
          <a:ext cx="586908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1127160"/>
                    <a:ext cx="586908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AutoShape 8"/>
          <p:cNvSpPr/>
          <p:nvPr/>
        </p:nvSpPr>
        <p:spPr>
          <a:xfrm>
            <a:off x="2841480" y="2252520"/>
            <a:ext cx="173160" cy="2460600"/>
          </a:xfrm>
          <a:custGeom>
            <a:avLst/>
            <a:gdLst>
              <a:gd name="textAreaLeft" fmla="*/ 50760 w 173160"/>
              <a:gd name="textAreaRight" fmla="*/ 173520 w 173160"/>
              <a:gd name="textAreaTop" fmla="*/ 102240 h 2460600"/>
              <a:gd name="textAreaBottom" fmla="*/ 2358360 h 24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860560" y="4809960"/>
            <a:ext cx="120600" cy="752760"/>
          </a:xfrm>
          <a:custGeom>
            <a:avLst/>
            <a:gdLst>
              <a:gd name="textAreaLeft" fmla="*/ 35280 w 120600"/>
              <a:gd name="textAreaRight" fmla="*/ 120960 w 120600"/>
              <a:gd name="textAreaTop" fmla="*/ 31320 h 752760"/>
              <a:gd name="textAreaBottom" fmla="*/ 721440 h 7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414440" y="20304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Exception Hand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5224320" y="2243160"/>
            <a:ext cx="3081600" cy="13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618320" y="162396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hrow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415880" y="320040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514520" y="4919760"/>
            <a:ext cx="13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ch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3166920" y="2759040"/>
            <a:ext cx="266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blems during execu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085480" y="3119400"/>
            <a:ext cx="172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85840" y="3695760"/>
            <a:ext cx="25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rror-handling 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543640" y="3624120"/>
            <a:ext cx="25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606920" y="3119400"/>
            <a:ext cx="194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861840" y="4056120"/>
            <a:ext cx="324036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- Intermix program logic with error-handling log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- Makes the program difficult to read, modify, maintain, and deb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046920" y="3984480"/>
            <a:ext cx="33130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- Allows to remove error-handling code from the main line of the pro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- Improves program clarity and enhances modifiabil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Exception Hand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n exception is an indication of a problem that occurs during a program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 execu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Exception handling enables programmers to create applications that can resolve (or handle) excep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hen no exceptions occur, exception-handling code incurs little or no performance penalties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Exception handling should be used only for problems that occur infrequent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PossiblySomeArguments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n exception is thrown, the execution of the surround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st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mally, the flow of control is transferred to another portion of code known as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 thrown is the argument to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, and is always an object of some exceptio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ecution of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tement is call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rowing an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is similar to a method cal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new 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SomeString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e above example, the object of class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created using a string as its argu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object, which is an argument to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perator, is the exception object thr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 of calling a method,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call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535040" y="4307040"/>
          <a:ext cx="6010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4307040"/>
                    <a:ext cx="6010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ption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905200" y="19969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two kinds of exceptions in 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36640" y="4148280"/>
            <a:ext cx="29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efined exception classes in the Java libraries (AP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180040" y="4157640"/>
            <a:ext cx="29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exception classes can be defined like any oth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2536560" y="2971800"/>
            <a:ext cx="93492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5367240" y="2968560"/>
            <a:ext cx="93528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Classes from Standard Pack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ous predefined exception classes are included in the standard packages that come with 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IO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NoSuchMethod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FileNotFound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exception classes must be imported in order to use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import java.io.IOException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redefined exception classes have the following properti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a constructor that takes a single argument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has an accessor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can recover the string given as an argument to the constructor when the exception object was creat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Classes from Standard Pack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defined exception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root class for all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 exception class is a descendent class of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can be used directly in a class or program, it is most often used to define a derived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in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ackage, and so requires n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3-02T18:44:43Z</dcterms:modified>
  <cp:revision>79</cp:revision>
  <dc:subject/>
  <dc:title>PowerPoint Presentation</dc:title>
</cp:coreProperties>
</file>