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133720" y="21844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2 : Inheritance I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on and Inheritance Pitfall: Use of Private Instance Variables from the Bas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a private instance variable of the base class can only be accessed by the public accessor and mutator methods defined in tha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6575400" y="2428920"/>
          <a:ext cx="256860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5400" y="2428920"/>
                    <a:ext cx="256860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2"/>
          <p:cNvGraphicFramePr/>
          <p:nvPr/>
        </p:nvGraphicFramePr>
        <p:xfrm>
          <a:off x="2362320" y="4591080"/>
          <a:ext cx="375444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591080"/>
                    <a:ext cx="375444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14"/>
          <p:cNvGrpSpPr/>
          <p:nvPr/>
        </p:nvGrpSpPr>
        <p:grpSpPr>
          <a:xfrm>
            <a:off x="5959080" y="3473640"/>
            <a:ext cx="881640" cy="1089360"/>
            <a:chOff x="5959080" y="3473640"/>
            <a:chExt cx="881640" cy="1089360"/>
          </a:xfrm>
        </p:grpSpPr>
        <p:sp>
          <p:nvSpPr>
            <p:cNvPr id="118" name="AutoShape 15"/>
            <p:cNvSpPr/>
            <p:nvPr/>
          </p:nvSpPr>
          <p:spPr>
            <a:xfrm rot="2270400">
              <a:off x="6539040" y="3502440"/>
              <a:ext cx="21564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H="1">
              <a:off x="5959080" y="381816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32832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Private Methods Are Effectively Not Inher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612440"/>
            <a:ext cx="765972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ivate methods of the base class are like private variables in terms of not being directly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a private method is completely unavailable, unless invoked indirect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possible only if an object of a derived class invokes a public method of the base class that happens to invoke the private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472760"/>
            <a:ext cx="76597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or instance variable is modified b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rather th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then it can be acces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na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ide its own class defini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ide any class derived from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definition of any class in the sam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nce variables or methods hav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ss can be acces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side the definition of any class in the sam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neither can be accessed outside th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ccess modifier is omitted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public class Mov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 String titl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int nbrOsc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       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the access will be :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  <a:ea typeface="Courier New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acc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Modif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8" descr="savitch_c07d09"/>
          <p:cNvPicPr/>
          <p:nvPr/>
        </p:nvPicPr>
        <p:blipFill>
          <a:blip r:embed="rId1"/>
          <a:srcRect l="0" t="1730" r="0" b="1984"/>
          <a:stretch/>
        </p:blipFill>
        <p:spPr>
          <a:xfrm>
            <a:off x="866880" y="1217520"/>
            <a:ext cx="6051600" cy="520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Forgetting About the Default Pack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considering package access, do not forget the default pack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lasses in the current directory (not belonging to some other package) belong to an unnamed packag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fault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class in the current directory is not in any other package, then it is in the default pack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 instance variable or method has package access, it can be accessed by name in the definition of any other class in the default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A Restriction on Protected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derived from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a protected instanc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the class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fferent packag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the following is tr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hod in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name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inherited from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hod in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create a local object of itself, which can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name (again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inherited from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A Restriction on Protected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5880" y="147276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f a method i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reates an object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can not acc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y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knows about its own inherited variables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t cannot directly access any instance variable or method of an ancestor clas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nless they are publ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for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ever it is used as an instance variabl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not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it is used as an instance variabl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rue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sam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y were in the same package there would be no problem, becaus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ccess implies package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4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7 pages 466-48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rived class uses a constructor from the base class to initialize all the data inherited from the base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invoke a constructor from the base class, it uses a special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erivedClass(int p1, int p2, double p3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(p1, p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stanceVariable = p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above exampl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(p1, p2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call to the base class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4360" y="143460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the base class constructor can never use the name of the base class, but uses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always be the first action taken in a constructor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variable cannot be used as an argument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derived class constructor does not include an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the no-argument constructor of the base class will automatically be invo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definition of a constructor for a clas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name for invoking another constructor in the same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t is necessary to include a call to bo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all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made first, and then the constructor that is called must c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its first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a no-argument constructor us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nvoke an explicit-value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o-argument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ClassName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this(argument1, argument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-value constructor (receives default value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ClassName(</a:t>
            </a:r>
            <a:r>
              <a:rPr b="1" i="1" lang="en-US" sz="1600" spc="-1" strike="noStrike">
                <a:solidFill>
                  <a:srgbClr val="034ca1"/>
                </a:solidFill>
                <a:latin typeface="Courier New"/>
              </a:rPr>
              <a:t>type1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param1, </a:t>
            </a:r>
            <a:r>
              <a:rPr b="1" i="1" lang="en-US" sz="1600" spc="-1" strike="noStrike">
                <a:solidFill>
                  <a:srgbClr val="034ca1"/>
                </a:solidFill>
                <a:latin typeface="Courier New"/>
              </a:rPr>
              <a:t>type2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param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tructor (examp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HourlyEmploye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is("No name", new Date(), 0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nstructor will cause the constructor with the following heading to be invok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HourlyEmployee(String theName, Date theDate, double theWageRate, double theHou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0276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:  An Object of a Derived Class Has More than On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63280" y="1345680"/>
            <a:ext cx="765972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bject of a derived class has the type of the derived class, and it also has the type of the bas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generally, an object of a derived class has the type of every one of its ancestor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fore, an object of a derived class can be assigned to a variable of any ancestor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bject of a derived class can be plugged in as a parameter in place of any of its ancestor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fact, a derived class object can be used anyplace that an object of any of its ancestor types can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, however, that this relationship does not go the other 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ncestor type can never be used in place of one of its derived ty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4635360" y="1065240"/>
          <a:ext cx="3283200" cy="20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5360" y="1065240"/>
                    <a:ext cx="3283200" cy="20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5"/>
          <p:cNvGraphicFramePr/>
          <p:nvPr/>
        </p:nvGraphicFramePr>
        <p:xfrm>
          <a:off x="2379600" y="4010040"/>
          <a:ext cx="333540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9600" y="4010040"/>
                    <a:ext cx="33354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6"/>
          <p:cNvGrpSpPr/>
          <p:nvPr/>
        </p:nvGrpSpPr>
        <p:grpSpPr>
          <a:xfrm>
            <a:off x="3647880" y="2762640"/>
            <a:ext cx="881280" cy="1089360"/>
            <a:chOff x="3647880" y="2762640"/>
            <a:chExt cx="881280" cy="1089360"/>
          </a:xfrm>
        </p:grpSpPr>
        <p:sp>
          <p:nvSpPr>
            <p:cNvPr id="99" name="AutoShape 7"/>
            <p:cNvSpPr/>
            <p:nvPr/>
          </p:nvSpPr>
          <p:spPr>
            <a:xfrm rot="2270400">
              <a:off x="4227840" y="2791440"/>
              <a:ext cx="215280" cy="353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 flipH="1">
              <a:off x="3647880" y="3107160"/>
              <a:ext cx="578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Rectangle 9"/>
          <p:cNvSpPr/>
          <p:nvPr/>
        </p:nvSpPr>
        <p:spPr>
          <a:xfrm>
            <a:off x="1447920" y="30312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:  An Object of a Derived Class Has More than On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on and Inheritance Pitfall: Use of Private Instance Variables from the Bas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438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variable that is private in a base class is not acce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n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definition of a method in any other class, not even in a method definition of a derive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1628640" y="4334040"/>
          <a:ext cx="385128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4334040"/>
                    <a:ext cx="385128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5730840" y="2502000"/>
          <a:ext cx="250344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0840" y="2502000"/>
                    <a:ext cx="250344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Group 6"/>
          <p:cNvGrpSpPr/>
          <p:nvPr/>
        </p:nvGrpSpPr>
        <p:grpSpPr>
          <a:xfrm>
            <a:off x="4943520" y="3296160"/>
            <a:ext cx="881280" cy="1088640"/>
            <a:chOff x="4943520" y="3296160"/>
            <a:chExt cx="881280" cy="1088640"/>
          </a:xfrm>
        </p:grpSpPr>
        <p:sp>
          <p:nvSpPr>
            <p:cNvPr id="109" name="AutoShape 7"/>
            <p:cNvSpPr/>
            <p:nvPr/>
          </p:nvSpPr>
          <p:spPr>
            <a:xfrm rot="2270400">
              <a:off x="5523480" y="3324960"/>
              <a:ext cx="215640" cy="35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H="1">
              <a:off x="4943520" y="3640320"/>
              <a:ext cx="5785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irfan</cp:lastModifiedBy>
  <dcterms:modified xsi:type="dcterms:W3CDTF">2015-02-07T19:02:26Z</dcterms:modified>
  <cp:revision>82</cp:revision>
  <dc:subject/>
  <dc:title>PowerPoint Presentation</dc:title>
</cp:coreProperties>
</file>