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5"/>
          <p:cNvSpPr/>
          <p:nvPr/>
        </p:nvSpPr>
        <p:spPr>
          <a:xfrm>
            <a:off x="5263200" y="5410080"/>
            <a:ext cx="34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s prepared by Rose Williams,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inghamton Univers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038480" y="5486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3"/>
          <p:cNvSpPr/>
          <p:nvPr/>
        </p:nvSpPr>
        <p:spPr>
          <a:xfrm>
            <a:off x="5270400" y="5321160"/>
            <a:ext cx="342900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2133720" y="2184480"/>
            <a:ext cx="640080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S201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cture 3 : Inheritance II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1219320" y="152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g Fahd University of Petroleum &amp; Miner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Computer Science &amp;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Rectangle 16"/>
          <p:cNvSpPr/>
          <p:nvPr/>
        </p:nvSpPr>
        <p:spPr>
          <a:xfrm>
            <a:off x="2592720" y="1295280"/>
            <a:ext cx="50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&amp; Computer Science Depart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as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la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in the packag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ava.la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hich is always imported automatic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ing an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ass enables methods to be written with a parameter of typ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parameter of typ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an be replaced by an object of any class whatsoev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la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has some methods that every Java class inherits (e.g.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qual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oStr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object inherits these methods from some ancestor clas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ither the class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tself, or a class that itself inherited these methods (ultimately) from the class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ever, these inherited methods should be overridden with definitions more appropriate to a given 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ight Way to Defin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qu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ce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qual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 is always inherited from the cla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methods like the following simply overload i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public boolean equals(Employee otherEmploye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{ . . . 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public boolean equals(Object otherObjec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{ . . . 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ever, the method inherited from cla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  <a:ea typeface="Courier New"/>
              </a:rPr>
              <a:t>Objec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hould be overridden, not just overloaded. Why ??  .. See next sl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213680" y="2019240"/>
            <a:ext cx="193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Defined in the current cla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6921360" y="3543480"/>
            <a:ext cx="193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Inherited from class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  <a:ea typeface="Courier New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Line 6"/>
          <p:cNvSpPr/>
          <p:nvPr/>
        </p:nvSpPr>
        <p:spPr>
          <a:xfrm flipH="1">
            <a:off x="6806880" y="2425680"/>
            <a:ext cx="546120" cy="1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Line 7"/>
          <p:cNvSpPr/>
          <p:nvPr/>
        </p:nvSpPr>
        <p:spPr>
          <a:xfrm flipH="1" flipV="1">
            <a:off x="6311520" y="3429000"/>
            <a:ext cx="80028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ight Way to Defin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qu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74360" y="142200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public boolean equals(Object otherObjec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{ . . . 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parameter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otherOb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f typ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ust be type cast to the given class (e.g.,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Employe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wever, the new method should only do this if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otherOb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really is an object of that class, and if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otherOb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s not equal to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nally, it should compare each of the instance variables of both object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7920" y="29016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ethod for the 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63640" y="1676520"/>
            <a:ext cx="7175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public boolean equals(Object otherObjec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if(otherObject == null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else if(getClass( ) != otherObject.getClass( )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Employee otherEmployee = (Employee)otherObjec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return (name.equals(otherEmployee.name) &amp;&amp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hireDate.equals(otherEmployee.hireDate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6807240" y="1612800"/>
            <a:ext cx="196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To check that the object is not nul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7175520" y="2793960"/>
            <a:ext cx="196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To check that the object is of the right cla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6934320" y="4483080"/>
            <a:ext cx="1968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Check the equality of instance variables one by o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Line 7"/>
          <p:cNvSpPr/>
          <p:nvPr/>
        </p:nvSpPr>
        <p:spPr>
          <a:xfrm flipH="1">
            <a:off x="4038480" y="2044800"/>
            <a:ext cx="2781360" cy="29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Line 8"/>
          <p:cNvSpPr/>
          <p:nvPr/>
        </p:nvSpPr>
        <p:spPr>
          <a:xfrm flipH="1" flipV="1">
            <a:off x="5651280" y="3034800"/>
            <a:ext cx="1778040" cy="41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9"/>
          <p:cNvSpPr/>
          <p:nvPr/>
        </p:nvSpPr>
        <p:spPr>
          <a:xfrm flipH="1" flipV="1">
            <a:off x="5638320" y="4470480"/>
            <a:ext cx="133380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920" y="29016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ethod for the 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HourlyEmploy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63640" y="1676520"/>
            <a:ext cx="7175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public boolean equals(Object otherObjec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if (otherObject == null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else if (getClass( ) != otherObject.getClass( )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HourlyEmployee otherHourlyEmployee =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                        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(HourlyEmployee)otherObjec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return (super.equals(otherHourlyEmploye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&amp;&amp; (wageRate == otherHourlyEmployee.wageRat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&amp;&amp; (hours == otherHourlyEmployee.hours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6807240" y="1612800"/>
            <a:ext cx="196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To check that the object is not nul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7238880" y="3009960"/>
            <a:ext cx="196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To check that the object is of the right cla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6934320" y="4483080"/>
            <a:ext cx="196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Reuse equal method of the Employee Cla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Line 7"/>
          <p:cNvSpPr/>
          <p:nvPr/>
        </p:nvSpPr>
        <p:spPr>
          <a:xfrm flipH="1">
            <a:off x="4813200" y="1994040"/>
            <a:ext cx="2006640" cy="29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8"/>
          <p:cNvSpPr/>
          <p:nvPr/>
        </p:nvSpPr>
        <p:spPr>
          <a:xfrm flipH="1" flipV="1">
            <a:off x="5651280" y="3034800"/>
            <a:ext cx="1778040" cy="41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Line 9"/>
          <p:cNvSpPr/>
          <p:nvPr/>
        </p:nvSpPr>
        <p:spPr>
          <a:xfrm flipH="1" flipV="1">
            <a:off x="5638320" y="4470480"/>
            <a:ext cx="133380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p: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etClas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ersu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stanceo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authors suggest using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nstance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perator in the definition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qu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ead of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getClass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nstanceof</a:t>
            </a:r>
            <a:r>
              <a:rPr b="0" lang="en-US" sz="2400" spc="-1" strike="noStrike">
                <a:solidFill>
                  <a:srgbClr val="034ca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or will retur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the object being tested is an instance of the class for which it is being te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ever, it will return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f it is 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cendent o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at clas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 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(and especially disturbing), for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to behave inconsistently given this scena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p: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etClas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ersu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stanceo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re is an example using the class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Employ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. . . //excerpt from bad equals metho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else if(!(OtherObject instanceof Employee)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return false; . . 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w consider the following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Employee e = new Employee("Joe", new Date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HourlyEmployee h = new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HourlyEmployee("Joe", new Date(),8.5, 40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boolean testH = e.equals(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boolean testE = h.equals(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 and h are created from different classes. So both testH and testE should be false. However, 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p: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etClas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ersu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stanceo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estH</a:t>
            </a:r>
            <a:r>
              <a:rPr b="0" lang="en-US" sz="24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b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becaus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he same name and hire date a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es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ll b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becaus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not a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Hourly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cannot be compared to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that this problem would not occur if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getClass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were used instead, as in the previou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stanceo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per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nstance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perator checks if an object is of the type given as its second arg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bject instanceof ClassN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will return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of typ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lassN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nd otherwise return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e that this means it will return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type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y descend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lassN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etClass(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object inherits the sam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getClass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from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invocation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getClass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n an object return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presen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he class that was used with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create the ob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results of any two such invocations can be compared with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==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!=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determine whether or not they represent the exact same 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(object1.getClass() == object2.getClass()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ss Modifiers [review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" name="Picture 8" descr="savitch_c07d09"/>
          <p:cNvPicPr/>
          <p:nvPr/>
        </p:nvPicPr>
        <p:blipFill>
          <a:blip r:embed="rId1"/>
          <a:srcRect l="0" t="1730" r="0" b="1984"/>
          <a:stretch/>
        </p:blipFill>
        <p:spPr>
          <a:xfrm>
            <a:off x="866880" y="1217520"/>
            <a:ext cx="6051600" cy="5205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3574800" y="2666880"/>
            <a:ext cx="210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6" name="Object 5"/>
          <p:cNvGraphicFramePr/>
          <p:nvPr/>
        </p:nvGraphicFramePr>
        <p:xfrm>
          <a:off x="7238880" y="4419720"/>
          <a:ext cx="1905120" cy="148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4419720"/>
                    <a:ext cx="190512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Text Box 6"/>
          <p:cNvSpPr/>
          <p:nvPr/>
        </p:nvSpPr>
        <p:spPr>
          <a:xfrm>
            <a:off x="228600" y="4249800"/>
            <a:ext cx="7086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ant to do at home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read chapter 7 pages 484-49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p:  "Is a" Versus "Has a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55320" y="129492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derived class demonstrates a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"is a"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lationship between it and its base 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example, an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HourlyEmploye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"is an"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Employ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HourlyEmploye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s a more complex class compared to the more general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Employe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la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2097000" y="4897440"/>
            <a:ext cx="140184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ourlyEmploye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5370480" y="4897440"/>
            <a:ext cx="140184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alariedEmploye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787920" y="3386160"/>
            <a:ext cx="140328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3063600" y="3816720"/>
            <a:ext cx="881280" cy="1089360"/>
            <a:chOff x="3063600" y="3816720"/>
            <a:chExt cx="881280" cy="1089360"/>
          </a:xfrm>
        </p:grpSpPr>
        <p:sp>
          <p:nvSpPr>
            <p:cNvPr id="90" name="AutoShape 9"/>
            <p:cNvSpPr/>
            <p:nvPr/>
          </p:nvSpPr>
          <p:spPr>
            <a:xfrm rot="2270400">
              <a:off x="3643560" y="3845520"/>
              <a:ext cx="215280" cy="3535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Line 10"/>
            <p:cNvSpPr/>
            <p:nvPr/>
          </p:nvSpPr>
          <p:spPr>
            <a:xfrm flipH="1">
              <a:off x="3063600" y="4161240"/>
              <a:ext cx="578520" cy="74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2" name="Group 11"/>
          <p:cNvGrpSpPr/>
          <p:nvPr/>
        </p:nvGrpSpPr>
        <p:grpSpPr>
          <a:xfrm>
            <a:off x="5068800" y="3816720"/>
            <a:ext cx="881640" cy="1089360"/>
            <a:chOff x="5068800" y="3816720"/>
            <a:chExt cx="881640" cy="1089360"/>
          </a:xfrm>
        </p:grpSpPr>
        <p:sp>
          <p:nvSpPr>
            <p:cNvPr id="93" name="AutoShape 12"/>
            <p:cNvSpPr/>
            <p:nvPr/>
          </p:nvSpPr>
          <p:spPr>
            <a:xfrm flipH="1" rot="19329600">
              <a:off x="5154120" y="3845520"/>
              <a:ext cx="215640" cy="3535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Line 13"/>
            <p:cNvSpPr/>
            <p:nvPr/>
          </p:nvSpPr>
          <p:spPr>
            <a:xfrm>
              <a:off x="5371920" y="4161240"/>
              <a:ext cx="578520" cy="74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1"/>
          <p:cNvSpPr/>
          <p:nvPr/>
        </p:nvSpPr>
        <p:spPr>
          <a:xfrm>
            <a:off x="1303200" y="214200"/>
            <a:ext cx="7307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ADemo Clas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1"/>
          <p:cNvSpPr/>
          <p:nvPr/>
        </p:nvSpPr>
        <p:spPr>
          <a:xfrm>
            <a:off x="1003320" y="1214280"/>
            <a:ext cx="7074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34ca1"/>
                </a:solidFill>
                <a:latin typeface="Tahoma"/>
              </a:rPr>
              <a:t>public class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sADem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34ca1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34ca1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34ca1"/>
                </a:solidFill>
                <a:latin typeface="Tahoma"/>
              </a:rPr>
              <a:t>public static void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(</a:t>
            </a:r>
            <a:r>
              <a:rPr b="0" lang="en-US" sz="1600" spc="-1" strike="noStrike">
                <a:solidFill>
                  <a:srgbClr val="034ca1"/>
                </a:solidFill>
                <a:latin typeface="Tahoma"/>
              </a:rPr>
              <a:t>String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[] arg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lariedEmployee ali = </a:t>
            </a:r>
            <a:r>
              <a:rPr b="0" lang="en-US" sz="1600" spc="-1" strike="noStrike">
                <a:solidFill>
                  <a:srgbClr val="034ca1"/>
                </a:solidFill>
                <a:latin typeface="Tahoma"/>
              </a:rPr>
              <a:t>new SalariedEmploye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"Ali Abdallah"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 Date("January", 1, 2004), 100000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urlyEmployee ahmad = </a:t>
            </a:r>
            <a:r>
              <a:rPr b="0" lang="en-US" sz="1600" spc="-1" strike="noStrike">
                <a:solidFill>
                  <a:srgbClr val="034ca1"/>
                </a:solidFill>
                <a:latin typeface="Tahoma"/>
              </a:rPr>
              <a:t>new HourlyEmploye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"Ahmad Saleh"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 Date("February", 1, 2003), 50.50, 40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Employee(ali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Employee(ahmad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34ca1"/>
                </a:solidFill>
                <a:latin typeface="Tahoma"/>
              </a:rPr>
              <a:t>public static void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Employee(</a:t>
            </a:r>
            <a:r>
              <a:rPr b="0" lang="en-US" sz="1600" spc="-1" strike="noStrike">
                <a:solidFill>
                  <a:srgbClr val="034ca1"/>
                </a:solidFill>
                <a:latin typeface="Tahoma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mployeeObjec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stem.out.println(employeeObject.getName( 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stem.out.println(employeeObject.getHireDate( 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//End IsADem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Cla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p:  "Is a" Versus "Has a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2080" y="1206000"/>
            <a:ext cx="7659720" cy="533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other way to make a more complex class out of a simpler class is through a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"has a"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lationsh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ype of relationship, calle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omposi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occurs when a class contains an instance variable of a class typ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Employe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lass contains an instance variable,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hireDat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of the class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so therefore, an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Employe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"has a"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HourlyEmploye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"is an"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Employe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"has a"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9" name="Object 4"/>
          <p:cNvGraphicFramePr/>
          <p:nvPr/>
        </p:nvGraphicFramePr>
        <p:xfrm>
          <a:off x="2892600" y="3330720"/>
          <a:ext cx="324936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2600" y="3330720"/>
                    <a:ext cx="324936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p:  Static Variables Are Inheri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ariables in a base class are inherited by any of its derived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odifier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rotec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package access have the same meaning for static variables as they do for instance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a Redefined Base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the definition of a method of a derived class, the base class version of an overridden method of the base class can still be invok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y preface the method name wi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super and a do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public class HourlyEmployee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Arial"/>
              </a:rPr>
              <a:t>…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public String toString(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return (super.toString() + "$" + wageRat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Cannot Use Multipl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up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659720" cy="41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only valid to us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up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invoke a method from a direct par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peating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upe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ll not invoke a method from some other ancestor cla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xample, if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ass were derived from the cla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nd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HourlyEmploye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 were derived form the cla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it would not be possible to invoke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oStr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 of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ass within a method of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HourlyEmploye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per.super.toString() // ILLEGAL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as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Java, every class is a descendent of the class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class ha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000" spc="-1" strike="noStrike">
                <a:solidFill>
                  <a:srgbClr val="034ca1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 its ances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object of every class is of typ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s well as being of the type of its own 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 class is defined that is not explicitly a derived class of another class, it is still automatically a derived class of the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34ca1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5:49:24Z</dcterms:created>
  <dc:creator>Copyright 2004 Pearson Addison-Wesley</dc:creator>
  <dc:description/>
  <cp:keywords/>
  <dc:language>en-US</dc:language>
  <cp:lastModifiedBy>CoreI5</cp:lastModifiedBy>
  <dcterms:modified xsi:type="dcterms:W3CDTF">2012-02-03T07:28:39Z</dcterms:modified>
  <cp:revision>76</cp:revision>
  <dc:subject/>
  <dc:title>PowerPoint Presentation</dc:title>
</cp:coreProperties>
</file>