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5"/>
          <p:cNvSpPr/>
          <p:nvPr/>
        </p:nvSpPr>
        <p:spPr>
          <a:xfrm>
            <a:off x="5263200" y="5410080"/>
            <a:ext cx="34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s prepared by Rose Williams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nghamton Univers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3"/>
          <p:cNvSpPr/>
          <p:nvPr/>
        </p:nvSpPr>
        <p:spPr>
          <a:xfrm>
            <a:off x="5270400" y="5321160"/>
            <a:ext cx="342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133720" y="2104920"/>
            <a:ext cx="64008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20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ture 6 : Interfa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of an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D13_2b"/>
          <p:cNvPicPr/>
          <p:nvPr/>
        </p:nvPicPr>
        <p:blipFill>
          <a:blip r:embed="rId1"/>
          <a:stretch/>
        </p:blipFill>
        <p:spPr>
          <a:xfrm>
            <a:off x="971640" y="1295280"/>
            <a:ext cx="7791480" cy="3807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Classes Implementing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 classes may implement one or mor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method headings given in the interface that are not given definitions are made into abstract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crete class must give definitions for all the method headings given in the abstract clas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nd th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bstract Class Implementing an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814320" y="1116000"/>
            <a:ext cx="7515360" cy="529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d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ke classes, an interface may be derived from a bas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call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xtend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erived interface must include the phr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extends </a:t>
            </a:r>
            <a:r>
              <a:rPr b="1" i="1" lang="en-US" sz="1600" spc="-1" strike="noStrike">
                <a:solidFill>
                  <a:srgbClr val="034ca1"/>
                </a:solidFill>
                <a:latin typeface="Courier New"/>
              </a:rPr>
              <a:t>BaseInterfaceN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crete class that implements a derived interface must have definitions for any methods in the derived interface as well as any methods in the bas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ding an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5" descr="D13_4"/>
          <p:cNvPicPr/>
          <p:nvPr/>
        </p:nvPicPr>
        <p:blipFill>
          <a:blip r:embed="rId1"/>
          <a:stretch/>
        </p:blipFill>
        <p:spPr>
          <a:xfrm>
            <a:off x="971640" y="1638360"/>
            <a:ext cx="748656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Constants in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interface can contain defined constants in addition to or instead of method head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y variables defined in an interface must be public, static, and fi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cause this is understood, Java allows these modifiers to be omit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class that implements the interface has access to these defined consta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tfall: Inconsistent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316160"/>
            <a:ext cx="80056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class implements two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ype of inconsistency will occur if the interfaces have constants with the same name, but with different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 this case, the class will be compiled correctly but when any of the constants is accessed via a reference of the class type, a compilation error will occur. If the reference is up-casted to one of the interfaces, the constant from that interface will be used without any erro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other type of inconsistency will occur if the interfaces contain methods with the same name but different return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s is an error, the class will not compil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3574800" y="266688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Object 5"/>
          <p:cNvGraphicFramePr/>
          <p:nvPr/>
        </p:nvGraphicFramePr>
        <p:xfrm>
          <a:off x="7238880" y="4419720"/>
          <a:ext cx="1905120" cy="14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419720"/>
                    <a:ext cx="19051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6"/>
          <p:cNvSpPr/>
          <p:nvPr/>
        </p:nvSpPr>
        <p:spPr>
          <a:xfrm>
            <a:off x="228600" y="424980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to do at hom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read chapter 13 pages 732-7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heri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Vs Multiple Inheri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632040" y="2428920"/>
            <a:ext cx="140184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ase_Class_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616040" y="3941640"/>
            <a:ext cx="1403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rived_Class_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6" name="Group 7"/>
          <p:cNvGrpSpPr/>
          <p:nvPr/>
        </p:nvGrpSpPr>
        <p:grpSpPr>
          <a:xfrm>
            <a:off x="4281480" y="2933640"/>
            <a:ext cx="215640" cy="1007640"/>
            <a:chOff x="4281480" y="2933640"/>
            <a:chExt cx="215640" cy="1007640"/>
          </a:xfrm>
        </p:grpSpPr>
        <p:sp>
          <p:nvSpPr>
            <p:cNvPr id="87" name="AutoShape 8"/>
            <p:cNvSpPr/>
            <p:nvPr/>
          </p:nvSpPr>
          <p:spPr>
            <a:xfrm>
              <a:off x="4281480" y="2933640"/>
              <a:ext cx="215640" cy="2746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9"/>
            <p:cNvSpPr/>
            <p:nvPr/>
          </p:nvSpPr>
          <p:spPr>
            <a:xfrm>
              <a:off x="4388040" y="3208320"/>
              <a:ext cx="0" cy="73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9" name="Rectangle 10"/>
          <p:cNvSpPr/>
          <p:nvPr/>
        </p:nvSpPr>
        <p:spPr>
          <a:xfrm>
            <a:off x="3670200" y="3941640"/>
            <a:ext cx="1403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rived_Class_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" name="Group 11"/>
          <p:cNvGrpSpPr/>
          <p:nvPr/>
        </p:nvGrpSpPr>
        <p:grpSpPr>
          <a:xfrm>
            <a:off x="2909520" y="2859480"/>
            <a:ext cx="881640" cy="1089360"/>
            <a:chOff x="2909520" y="2859480"/>
            <a:chExt cx="881640" cy="1089360"/>
          </a:xfrm>
        </p:grpSpPr>
        <p:sp>
          <p:nvSpPr>
            <p:cNvPr id="91" name="AutoShape 12"/>
            <p:cNvSpPr/>
            <p:nvPr/>
          </p:nvSpPr>
          <p:spPr>
            <a:xfrm rot="2270400">
              <a:off x="3489480" y="2888280"/>
              <a:ext cx="215640" cy="353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Line 13"/>
            <p:cNvSpPr/>
            <p:nvPr/>
          </p:nvSpPr>
          <p:spPr>
            <a:xfrm flipH="1">
              <a:off x="2909520" y="3204000"/>
              <a:ext cx="57852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3" name="Rectangle 14"/>
          <p:cNvSpPr/>
          <p:nvPr/>
        </p:nvSpPr>
        <p:spPr>
          <a:xfrm>
            <a:off x="5541840" y="3941640"/>
            <a:ext cx="140364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rived_Class_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4841640" y="2859480"/>
            <a:ext cx="881640" cy="1089360"/>
            <a:chOff x="4841640" y="2859480"/>
            <a:chExt cx="881640" cy="1089360"/>
          </a:xfrm>
        </p:grpSpPr>
        <p:sp>
          <p:nvSpPr>
            <p:cNvPr id="95" name="AutoShape 16"/>
            <p:cNvSpPr/>
            <p:nvPr/>
          </p:nvSpPr>
          <p:spPr>
            <a:xfrm flipH="1" rot="19329600">
              <a:off x="4926960" y="2888280"/>
              <a:ext cx="215640" cy="353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Line 17"/>
            <p:cNvSpPr/>
            <p:nvPr/>
          </p:nvSpPr>
          <p:spPr>
            <a:xfrm>
              <a:off x="5144760" y="3204000"/>
              <a:ext cx="57852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61760" y="1371240"/>
            <a:ext cx="80578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Inheritance : when a class inherits from two or more different base classes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Multiple inheritance can create significant complications because the implementations that are inherited could be conflic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Vs Multiple Inheri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632040" y="2428920"/>
            <a:ext cx="140184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ase_Class_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616040" y="3941640"/>
            <a:ext cx="1403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rived_Class_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" name="Group 6"/>
          <p:cNvGrpSpPr/>
          <p:nvPr/>
        </p:nvGrpSpPr>
        <p:grpSpPr>
          <a:xfrm>
            <a:off x="4281480" y="2933640"/>
            <a:ext cx="215640" cy="1007640"/>
            <a:chOff x="4281480" y="2933640"/>
            <a:chExt cx="215640" cy="1007640"/>
          </a:xfrm>
        </p:grpSpPr>
        <p:sp>
          <p:nvSpPr>
            <p:cNvPr id="102" name="AutoShape 7"/>
            <p:cNvSpPr/>
            <p:nvPr/>
          </p:nvSpPr>
          <p:spPr>
            <a:xfrm>
              <a:off x="4281480" y="2933640"/>
              <a:ext cx="215640" cy="2746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Line 8"/>
            <p:cNvSpPr/>
            <p:nvPr/>
          </p:nvSpPr>
          <p:spPr>
            <a:xfrm>
              <a:off x="4388040" y="3208320"/>
              <a:ext cx="0" cy="73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4" name="Rectangle 9"/>
          <p:cNvSpPr/>
          <p:nvPr/>
        </p:nvSpPr>
        <p:spPr>
          <a:xfrm>
            <a:off x="3670200" y="3941640"/>
            <a:ext cx="1403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rived_Class_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Group 10"/>
          <p:cNvGrpSpPr/>
          <p:nvPr/>
        </p:nvGrpSpPr>
        <p:grpSpPr>
          <a:xfrm>
            <a:off x="2909520" y="2859480"/>
            <a:ext cx="881640" cy="1089360"/>
            <a:chOff x="2909520" y="2859480"/>
            <a:chExt cx="881640" cy="1089360"/>
          </a:xfrm>
        </p:grpSpPr>
        <p:sp>
          <p:nvSpPr>
            <p:cNvPr id="106" name="AutoShape 11"/>
            <p:cNvSpPr/>
            <p:nvPr/>
          </p:nvSpPr>
          <p:spPr>
            <a:xfrm rot="2270400">
              <a:off x="3489480" y="2888280"/>
              <a:ext cx="215640" cy="353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 flipH="1">
              <a:off x="2909520" y="3204000"/>
              <a:ext cx="57852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13"/>
          <p:cNvSpPr/>
          <p:nvPr/>
        </p:nvSpPr>
        <p:spPr>
          <a:xfrm>
            <a:off x="5541840" y="3941640"/>
            <a:ext cx="140364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rived_Class_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Group 14"/>
          <p:cNvGrpSpPr/>
          <p:nvPr/>
        </p:nvGrpSpPr>
        <p:grpSpPr>
          <a:xfrm>
            <a:off x="4841640" y="2859480"/>
            <a:ext cx="881640" cy="1089360"/>
            <a:chOff x="4841640" y="2859480"/>
            <a:chExt cx="881640" cy="1089360"/>
          </a:xfrm>
        </p:grpSpPr>
        <p:sp>
          <p:nvSpPr>
            <p:cNvPr id="110" name="AutoShape 15"/>
            <p:cNvSpPr/>
            <p:nvPr/>
          </p:nvSpPr>
          <p:spPr>
            <a:xfrm flipH="1" rot="19329600">
              <a:off x="4926960" y="2888280"/>
              <a:ext cx="215640" cy="353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Line 16"/>
            <p:cNvSpPr/>
            <p:nvPr/>
          </p:nvSpPr>
          <p:spPr>
            <a:xfrm>
              <a:off x="5144760" y="3204000"/>
              <a:ext cx="57852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2" name="Rectangle 17"/>
          <p:cNvSpPr/>
          <p:nvPr/>
        </p:nvSpPr>
        <p:spPr>
          <a:xfrm>
            <a:off x="7081920" y="2413080"/>
            <a:ext cx="1401840" cy="49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ase_Class_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6713280" y="2843640"/>
            <a:ext cx="881280" cy="1089360"/>
            <a:chOff x="6713280" y="2843640"/>
            <a:chExt cx="881280" cy="1089360"/>
          </a:xfrm>
        </p:grpSpPr>
        <p:sp>
          <p:nvSpPr>
            <p:cNvPr id="114" name="AutoShape 19"/>
            <p:cNvSpPr/>
            <p:nvPr/>
          </p:nvSpPr>
          <p:spPr>
            <a:xfrm rot="2270400">
              <a:off x="7293240" y="2872440"/>
              <a:ext cx="215280" cy="353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 flipH="1">
              <a:off x="6713280" y="3188160"/>
              <a:ext cx="57852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0"/>
          <p:cNvSpPr/>
          <p:nvPr/>
        </p:nvSpPr>
        <p:spPr>
          <a:xfrm>
            <a:off x="1892160" y="3003480"/>
            <a:ext cx="140184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3583080" y="4516560"/>
            <a:ext cx="1403280" cy="49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Employe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" name="Group 22"/>
          <p:cNvGrpSpPr/>
          <p:nvPr/>
        </p:nvGrpSpPr>
        <p:grpSpPr>
          <a:xfrm>
            <a:off x="2919240" y="3434040"/>
            <a:ext cx="881640" cy="1089360"/>
            <a:chOff x="2919240" y="3434040"/>
            <a:chExt cx="881640" cy="1089360"/>
          </a:xfrm>
        </p:grpSpPr>
        <p:sp>
          <p:nvSpPr>
            <p:cNvPr id="119" name="AutoShape 23"/>
            <p:cNvSpPr/>
            <p:nvPr/>
          </p:nvSpPr>
          <p:spPr>
            <a:xfrm flipH="1" rot="19329600">
              <a:off x="3004560" y="3462840"/>
              <a:ext cx="215640" cy="353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3222360" y="3778560"/>
              <a:ext cx="57852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1" name="Rectangle 25"/>
          <p:cNvSpPr/>
          <p:nvPr/>
        </p:nvSpPr>
        <p:spPr>
          <a:xfrm>
            <a:off x="5165640" y="3003480"/>
            <a:ext cx="140184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Group 26"/>
          <p:cNvGrpSpPr/>
          <p:nvPr/>
        </p:nvGrpSpPr>
        <p:grpSpPr>
          <a:xfrm>
            <a:off x="4731840" y="3434040"/>
            <a:ext cx="881640" cy="1089360"/>
            <a:chOff x="4731840" y="3434040"/>
            <a:chExt cx="881640" cy="1089360"/>
          </a:xfrm>
        </p:grpSpPr>
        <p:sp>
          <p:nvSpPr>
            <p:cNvPr id="123" name="AutoShape 27"/>
            <p:cNvSpPr/>
            <p:nvPr/>
          </p:nvSpPr>
          <p:spPr>
            <a:xfrm rot="2270400">
              <a:off x="5311800" y="3462840"/>
              <a:ext cx="215640" cy="353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 flipH="1">
              <a:off x="4731840" y="3778560"/>
              <a:ext cx="57852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5" name="Rectangle 29"/>
          <p:cNvSpPr/>
          <p:nvPr/>
        </p:nvSpPr>
        <p:spPr>
          <a:xfrm>
            <a:off x="3583080" y="1492200"/>
            <a:ext cx="1403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" name="Group 30"/>
          <p:cNvGrpSpPr/>
          <p:nvPr/>
        </p:nvGrpSpPr>
        <p:grpSpPr>
          <a:xfrm>
            <a:off x="2858760" y="1922760"/>
            <a:ext cx="881640" cy="1089360"/>
            <a:chOff x="2858760" y="1922760"/>
            <a:chExt cx="881640" cy="1089360"/>
          </a:xfrm>
        </p:grpSpPr>
        <p:sp>
          <p:nvSpPr>
            <p:cNvPr id="127" name="AutoShape 31"/>
            <p:cNvSpPr/>
            <p:nvPr/>
          </p:nvSpPr>
          <p:spPr>
            <a:xfrm rot="2270400">
              <a:off x="3438720" y="1951560"/>
              <a:ext cx="215640" cy="353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 flipH="1">
              <a:off x="2858760" y="2267280"/>
              <a:ext cx="57852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9" name="Group 33"/>
          <p:cNvGrpSpPr/>
          <p:nvPr/>
        </p:nvGrpSpPr>
        <p:grpSpPr>
          <a:xfrm>
            <a:off x="4863960" y="1922760"/>
            <a:ext cx="881640" cy="1089360"/>
            <a:chOff x="4863960" y="1922760"/>
            <a:chExt cx="881640" cy="1089360"/>
          </a:xfrm>
        </p:grpSpPr>
        <p:sp>
          <p:nvSpPr>
            <p:cNvPr id="130" name="AutoShape 34"/>
            <p:cNvSpPr/>
            <p:nvPr/>
          </p:nvSpPr>
          <p:spPr>
            <a:xfrm flipH="1" rot="19329600">
              <a:off x="4949280" y="1951560"/>
              <a:ext cx="215640" cy="353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5167080" y="2267280"/>
              <a:ext cx="57852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2" name="Rectangle 36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y with Multiple Inheri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5062680" y="16336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ring na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1027080" y="322416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etHours(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6543720" y="320688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etHours(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 many name will be in StudentEmploye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ch version of getHours() will be used in StudentEmploye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Inheritance in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inheritance is not allowed for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inheritance is allowed only for interf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terface can be seen as a class without any implem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Interfaces are Ja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way of approximating multiple inheri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an interface?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sl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1093680"/>
            <a:ext cx="765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something like an extreme case of an abstract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ever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 interface is not a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t is a type that can be satisfied by any class that implements the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yntax for defining an interface is similar to that of defining a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ept the wor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used in place of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interface specifies a set of methods that any class that implements the interface must ha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contains method headings and constant definitions on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contains no instance variables nor any complete method defin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interface and all of its method headings should be declared publ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y cannot be given private, protected, or package 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der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4" descr="D13_1"/>
          <p:cNvPicPr/>
          <p:nvPr/>
        </p:nvPicPr>
        <p:blipFill>
          <a:blip r:embed="rId1"/>
          <a:stretch/>
        </p:blipFill>
        <p:spPr>
          <a:xfrm>
            <a:off x="923760" y="1428840"/>
            <a:ext cx="776304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ement an interf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 concrete class must do two thing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must include the phr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mplements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Interface_N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the start of the class definition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more than one interface is implemented, each is listed, separated by comma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lass must implement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method headings listed in the definition(s) of the interface(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of an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1"/>
          <a:stretch/>
        </p:blipFill>
        <p:spPr>
          <a:xfrm>
            <a:off x="690480" y="1471680"/>
            <a:ext cx="7763040" cy="391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cp:keywords/>
  <dc:language>en-US</dc:language>
  <cp:lastModifiedBy>CoreI5</cp:lastModifiedBy>
  <dcterms:modified xsi:type="dcterms:W3CDTF">2012-02-17T17:25:18Z</dcterms:modified>
  <cp:revision>67</cp:revision>
  <dc:subject/>
  <dc:title>PowerPoint Presentation</dc:title>
</cp:coreProperties>
</file>