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09680" y="2728440"/>
            <a:ext cx="60962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2096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cture 24 : Col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102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3880" y="2286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Method Headings in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Arial"/>
              </a:rPr>
              <a:t>Collection&lt;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14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3880" y="2286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Method Headings in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Arial"/>
              </a:rPr>
              <a:t>Collection&lt;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65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2286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Method Headings in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Arial"/>
              </a:rPr>
              <a:t>Collection&lt;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216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2286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Method Headings in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Arial"/>
              </a:rPr>
              <a:t>Collection&lt;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803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2286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Method Headings in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Arial"/>
              </a:rPr>
              <a:t>Collection&lt;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98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3880" y="2286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Method Headings in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Arial"/>
              </a:rPr>
              <a:t>Collection&lt;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ion Relation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a number of different predefined classes that implement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lection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er defined classes can implement it al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thod written to manipulate a parameter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lection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ll work for all of these classes, either singly or intermix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two main interfaces that exte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lection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: 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&lt;T&gt;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ace a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ist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ion Relation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that implemen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&lt;T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do not allow an element in the class to occur more than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 has the same method headings as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lection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, but in some cases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manti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intended meanings) are diffe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that are optional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lection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 are required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ion Relation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es that implement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List&lt;T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terface have their elements ordered as on a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ments are indexed starting with z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lass that implements th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List&lt;T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nterface allows elements to occur more than o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List&lt;T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nterface has more method headings than th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Collection&lt;T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me of the methods inherited from th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Collection&lt;T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nterface have different semantics in th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List&lt;T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ArrayList&lt;T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lass implements th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List&lt;T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38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Java collection is any class that holds objects and implements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le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xample,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rayList&lt;T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is a Java collection class, and implements all the methods in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lections are used along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le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 is the highest level of Java's framework for collection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the collection classes discussed here can be found in package java.ut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11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66434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236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6568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14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64958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295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66434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281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66434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1 of 1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332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67910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2 of 1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678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70117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3 of 1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67165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4 of 1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66434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7 of 1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11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dsc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3000" y="1028880"/>
            <a:ext cx="6540480" cy="5829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66434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9 of 1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67165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10 of 1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64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69390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12 of 1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87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66434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13 of 1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2422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68641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14 of 1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67910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&lt;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 (Part 15 of 1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259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s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04920" y="1731960"/>
          <a:ext cx="8610480" cy="39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731960"/>
                    <a:ext cx="861048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352440"/>
            <a:ext cx="73072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llections class is a utility class.  It contains static methods for manipulating collection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Arrays class is also a utility class.  It contains static methods for manipulating arrays.  One useful method used is asList() to convert an array into a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ollowing are the most frequently used methods of the Collections clas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ic int binarySearch(List list, Object o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ic int binarySearch(List list, Object o, Comparator c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ic void sort(List lis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ic void sort(List list, Comparator c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ic Object max(Collection c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ic Object min(Collection c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ic void reverse(List lis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ic void shuffle(List lis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dc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and interfaces in the collection framework can have parameter type specifications that do not fully specify the type plugged in for the type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they specify a wide range of argument types, they are known a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ldc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void method(String arg1, ArrayList&lt;?&gt; arg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above example, the first argument is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le the second argument can be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any bas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dc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bound can be placed on a wildcard specifying that the type used must be an ancestor type or descendent type of some class or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notatio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&lt;? extends String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pecifies that the argument plugged in be an object of any descendent class o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notatio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&lt;? super String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pecifies that the argument plugged in be an object of any ancestor class o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a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lection&lt;T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 describes the basic operations that all collection classes should imp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method headings for these operations are shown on the next several sli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an interface is a type, any method can be defined with a parameter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lection&lt;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at parameter can be filled with an argument that is an object of any class in the collection 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terface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90720" y="1041480"/>
          <a:ext cx="7772400" cy="585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041480"/>
                    <a:ext cx="77724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39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2286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Method Headings in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Arial"/>
              </a:rPr>
              <a:t>Collection&lt;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232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2286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Method Headings in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Arial"/>
              </a:rPr>
              <a:t>Collection&lt;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Administrator</cp:lastModifiedBy>
  <dcterms:modified xsi:type="dcterms:W3CDTF">2010-10-01T11:46:45Z</dcterms:modified>
  <cp:revision>49</cp:revision>
  <dc:subject/>
  <dc:title>PowerPoint Presentation</dc:title>
</cp:coreProperties>
</file>