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A17-AEC3-43F8-B37A-3E367419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F05-E538-4AB2-ACB0-0B7E349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846-6D7D-4CCE-9D38-10A75105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107-156B-4228-A495-C52A7639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23B-2DC7-4AD2-8F97-456E220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1DB-8132-44CC-AE2C-A980AAA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D9A-E112-4A2B-AE2F-26AD1D5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944-DCB7-4B3D-AC64-79619AA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B25-3C76-411E-BC95-76EE8F1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341-E59F-44F8-8B53-D9BCCFF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2B8-FA67-473D-89AA-451FE12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0B9-35D4-454F-9FF6-F024BAA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-6480"/>
          <a:ext cx="9144000" cy="686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648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31BA-B1CC-495F-A33A-630AA73D2D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0" y="838080"/>
          <a:ext cx="9144000" cy="7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83808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133720" y="1841400"/>
            <a:ext cx="6400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cture 8 : Introduction to Java Virtual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of J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23"/>
          <p:cNvGrpSpPr/>
          <p:nvPr/>
        </p:nvGrpSpPr>
        <p:grpSpPr>
          <a:xfrm>
            <a:off x="152280" y="1219320"/>
            <a:ext cx="8305560" cy="5104800"/>
            <a:chOff x="152280" y="1219320"/>
            <a:chExt cx="8305560" cy="5104800"/>
          </a:xfrm>
        </p:grpSpPr>
        <p:sp>
          <p:nvSpPr>
            <p:cNvPr id="190" name="Rectangle 2"/>
            <p:cNvSpPr/>
            <p:nvPr/>
          </p:nvSpPr>
          <p:spPr>
            <a:xfrm>
              <a:off x="2263680" y="1219320"/>
              <a:ext cx="253368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2334240" y="175680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5"/>
            <p:cNvSpPr/>
            <p:nvPr/>
          </p:nvSpPr>
          <p:spPr>
            <a:xfrm>
              <a:off x="2334240" y="229392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stant P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2334240" y="2831400"/>
              <a:ext cx="2392920" cy="537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thod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493848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606456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7191000" y="1219320"/>
              <a:ext cx="11257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4375440" y="3772080"/>
              <a:ext cx="2111400" cy="201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xec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ng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6909480" y="4040280"/>
              <a:ext cx="1548360" cy="1007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2545560" y="4309200"/>
              <a:ext cx="1548000" cy="873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433800" y="5316840"/>
              <a:ext cx="1759320" cy="87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Cloud"/>
            <p:cNvSpPr/>
            <p:nvPr/>
          </p:nvSpPr>
          <p:spPr>
            <a:xfrm>
              <a:off x="152280" y="3637440"/>
              <a:ext cx="2111400" cy="1141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4516200" y="3973320"/>
              <a:ext cx="1759680" cy="67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C, FP, S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 rot="1631400">
              <a:off x="1989360" y="454716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 rot="19781400">
              <a:off x="1991160" y="501444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3249000" y="3570480"/>
              <a:ext cx="422280" cy="671400"/>
            </a:xfrm>
            <a:prstGeom prst="upArrow">
              <a:avLst>
                <a:gd name="adj1" fmla="val 50000"/>
                <a:gd name="adj2" fmla="val 3974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6909480" y="5451120"/>
              <a:ext cx="1548360" cy="87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7683480" y="5047920"/>
              <a:ext cx="0" cy="40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>
              <a:off x="7683480" y="3503160"/>
              <a:ext cx="0" cy="53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>
              <a:off x="6487200" y="4578120"/>
              <a:ext cx="42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Lo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a9000"/>
                </a:solidFill>
                <a:latin typeface="Tahoma"/>
              </a:rPr>
              <a:t>Lo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inding and importing the binary data for a cla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a9000"/>
                </a:solidFill>
                <a:latin typeface="Tahoma"/>
              </a:rPr>
              <a:t>Link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Ver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ensuring the correctness of the imported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Prepa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llocating memory for class variables and initializing the memory to default val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Re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ransforming symbolic references from the type into direct referen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99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a90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voking Java code that initializes class variables to their proper starting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representation of Java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about the superclass and implemented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about the fields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the bytecodes of the methods of the loaded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of J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152280" y="1219320"/>
            <a:ext cx="8305560" cy="5104800"/>
            <a:chOff x="152280" y="1219320"/>
            <a:chExt cx="8305560" cy="5104800"/>
          </a:xfrm>
        </p:grpSpPr>
        <p:sp>
          <p:nvSpPr>
            <p:cNvPr id="216" name="Rectangle 4"/>
            <p:cNvSpPr/>
            <p:nvPr/>
          </p:nvSpPr>
          <p:spPr>
            <a:xfrm>
              <a:off x="2263680" y="1219320"/>
              <a:ext cx="253368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2334240" y="175680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2334240" y="229392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stant P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2334240" y="2831400"/>
              <a:ext cx="2392920" cy="537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thod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493848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9"/>
            <p:cNvSpPr/>
            <p:nvPr/>
          </p:nvSpPr>
          <p:spPr>
            <a:xfrm>
              <a:off x="606456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7191000" y="1219320"/>
              <a:ext cx="11257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4375440" y="3772080"/>
              <a:ext cx="2111400" cy="201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xec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ng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12"/>
            <p:cNvSpPr/>
            <p:nvPr/>
          </p:nvSpPr>
          <p:spPr>
            <a:xfrm>
              <a:off x="6909480" y="4040280"/>
              <a:ext cx="1548360" cy="1007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2545560" y="4309200"/>
              <a:ext cx="1548000" cy="873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433800" y="5316840"/>
              <a:ext cx="1759320" cy="87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Cloud"/>
            <p:cNvSpPr/>
            <p:nvPr/>
          </p:nvSpPr>
          <p:spPr>
            <a:xfrm>
              <a:off x="152280" y="3637440"/>
              <a:ext cx="2111400" cy="1141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4516200" y="3973320"/>
              <a:ext cx="1759680" cy="67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C, FP, S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7"/>
            <p:cNvSpPr/>
            <p:nvPr/>
          </p:nvSpPr>
          <p:spPr>
            <a:xfrm rot="1631400">
              <a:off x="1989360" y="454716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8"/>
            <p:cNvSpPr/>
            <p:nvPr/>
          </p:nvSpPr>
          <p:spPr>
            <a:xfrm rot="19781400">
              <a:off x="1991160" y="501444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>
              <a:off x="3249000" y="3570480"/>
              <a:ext cx="422280" cy="671400"/>
            </a:xfrm>
            <a:prstGeom prst="upArrow">
              <a:avLst>
                <a:gd name="adj1" fmla="val 50000"/>
                <a:gd name="adj2" fmla="val 3974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0"/>
            <p:cNvSpPr/>
            <p:nvPr/>
          </p:nvSpPr>
          <p:spPr>
            <a:xfrm>
              <a:off x="6909480" y="5451120"/>
              <a:ext cx="1548360" cy="87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1"/>
            <p:cNvSpPr/>
            <p:nvPr/>
          </p:nvSpPr>
          <p:spPr>
            <a:xfrm>
              <a:off x="7683480" y="5047920"/>
              <a:ext cx="0" cy="40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2"/>
            <p:cNvSpPr/>
            <p:nvPr/>
          </p:nvSpPr>
          <p:spPr>
            <a:xfrm>
              <a:off x="7683480" y="3503160"/>
              <a:ext cx="0" cy="53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3"/>
            <p:cNvSpPr/>
            <p:nvPr/>
          </p:nvSpPr>
          <p:spPr>
            <a:xfrm>
              <a:off x="6487200" y="4578120"/>
              <a:ext cx="42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Java stack is composed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rame contains the state of one Java method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ly, a frame has two parts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ocal variable arr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erand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has no registers; it uses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perand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storage of intermediate data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eep the JVM's instruction set compa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acilitate implementation on architectures with limited number of general purpose regi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Java thread has its own stack and cannot access the stack of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ck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57200" y="1523880"/>
            <a:ext cx="3962520" cy="449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525200" y="203364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670160" y="3164040"/>
            <a:ext cx="9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545720" y="56149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654680" y="1639800"/>
            <a:ext cx="104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295280" y="1905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Comic Sans MS"/>
              </a:rPr>
              <a:t>a = (b + c) </a:t>
            </a:r>
            <a:r>
              <a:rPr b="0" lang="fr-CA" sz="1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003366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3200400" y="2362320"/>
            <a:ext cx="4266720" cy="3429000"/>
            <a:chOff x="3200400" y="2362320"/>
            <a:chExt cx="4266720" cy="3429000"/>
          </a:xfrm>
        </p:grpSpPr>
        <p:sp>
          <p:nvSpPr>
            <p:cNvPr id="254" name="Text Box 4"/>
            <p:cNvSpPr/>
            <p:nvPr/>
          </p:nvSpPr>
          <p:spPr>
            <a:xfrm>
              <a:off x="3809880" y="3392640"/>
              <a:ext cx="365724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load_2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variable 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load_3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variable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add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addi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const_2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constant value 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mul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multiplic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store_1 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save the value of 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3657240" y="3200400"/>
              <a:ext cx="380988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3200400" y="236232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6171840" y="28195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3366"/>
                  </a:solidFill>
                  <a:latin typeface="Comic Sans MS"/>
                </a:rPr>
                <a:t>Byteco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6171840" y="2743200"/>
              <a:ext cx="1295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ach Thread Has its own S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3520" y="1447920"/>
            <a:ext cx="80010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33520" y="2971800"/>
            <a:ext cx="8001000" cy="342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853920" y="1959120"/>
            <a:ext cx="1584360" cy="403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673440" y="1959120"/>
            <a:ext cx="1584360" cy="403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264360" y="1959120"/>
            <a:ext cx="1584360" cy="40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928800" y="3146400"/>
            <a:ext cx="1433520" cy="739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928800" y="4289400"/>
            <a:ext cx="1433520" cy="739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928800" y="5432400"/>
            <a:ext cx="1433520" cy="739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597120" y="3146400"/>
            <a:ext cx="1584360" cy="739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3597120" y="4289400"/>
            <a:ext cx="1584360" cy="739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6264360" y="3146400"/>
            <a:ext cx="1584360" cy="73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6264360" y="4289400"/>
            <a:ext cx="1584360" cy="73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6264360" y="5432400"/>
            <a:ext cx="1584360" cy="73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1600200" y="2443320"/>
            <a:ext cx="144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1600200" y="3922560"/>
            <a:ext cx="144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1600200" y="5065560"/>
            <a:ext cx="144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419720" y="2443320"/>
            <a:ext cx="144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419720" y="3922560"/>
            <a:ext cx="144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7010280" y="2443320"/>
            <a:ext cx="180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7010280" y="3922560"/>
            <a:ext cx="180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7010280" y="5065560"/>
            <a:ext cx="180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of J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152280" y="1219320"/>
            <a:ext cx="8305560" cy="5104800"/>
            <a:chOff x="152280" y="1219320"/>
            <a:chExt cx="8305560" cy="5104800"/>
          </a:xfrm>
        </p:grpSpPr>
        <p:sp>
          <p:nvSpPr>
            <p:cNvPr id="284" name="Rectangle 4"/>
            <p:cNvSpPr/>
            <p:nvPr/>
          </p:nvSpPr>
          <p:spPr>
            <a:xfrm>
              <a:off x="2263680" y="1219320"/>
              <a:ext cx="253368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2334240" y="175680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334240" y="229392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stant P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2334240" y="2831400"/>
              <a:ext cx="2392920" cy="537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thod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493848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>
              <a:off x="606456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7191000" y="1219320"/>
              <a:ext cx="11257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4375440" y="3772080"/>
              <a:ext cx="2111400" cy="201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xec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ng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6909480" y="4040280"/>
              <a:ext cx="1548360" cy="1007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2545560" y="4309200"/>
              <a:ext cx="1548000" cy="873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14"/>
            <p:cNvSpPr/>
            <p:nvPr/>
          </p:nvSpPr>
          <p:spPr>
            <a:xfrm>
              <a:off x="433800" y="5316840"/>
              <a:ext cx="1759320" cy="87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Cloud"/>
            <p:cNvSpPr/>
            <p:nvPr/>
          </p:nvSpPr>
          <p:spPr>
            <a:xfrm>
              <a:off x="152280" y="3637440"/>
              <a:ext cx="2111400" cy="1141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4516200" y="3973320"/>
              <a:ext cx="1759680" cy="67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C, FP, S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17"/>
            <p:cNvSpPr/>
            <p:nvPr/>
          </p:nvSpPr>
          <p:spPr>
            <a:xfrm rot="1631400">
              <a:off x="1989360" y="454716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AutoShape 18"/>
            <p:cNvSpPr/>
            <p:nvPr/>
          </p:nvSpPr>
          <p:spPr>
            <a:xfrm rot="19781400">
              <a:off x="1991160" y="501444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utoShape 19"/>
            <p:cNvSpPr/>
            <p:nvPr/>
          </p:nvSpPr>
          <p:spPr>
            <a:xfrm>
              <a:off x="3249000" y="3570480"/>
              <a:ext cx="422280" cy="671400"/>
            </a:xfrm>
            <a:prstGeom prst="upArrow">
              <a:avLst>
                <a:gd name="adj1" fmla="val 50000"/>
                <a:gd name="adj2" fmla="val 3974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6909480" y="5451120"/>
              <a:ext cx="1548360" cy="87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>
              <a:off x="7683480" y="5047920"/>
              <a:ext cx="0" cy="40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>
              <a:off x="7683480" y="3503160"/>
              <a:ext cx="0" cy="53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6487200" y="4578120"/>
              <a:ext cx="42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are allocated in the he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pplications cannot explicitly free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arbage Coll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voked from time to time automatically to reclaim the objects that are no longer needed by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ap is shared by all Java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Language, Java Virtual Machine and Java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 of Java Virtual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reter and Just-In-Time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Objects in the 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22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3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bage Coll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44600" y="1289160"/>
            <a:ext cx="8699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Times New Roman"/>
              </a:rPr>
              <a:t>Roo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internally defined by the JV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2914560" y="3598920"/>
            <a:ext cx="68580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009880" y="4579920"/>
            <a:ext cx="68580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3710160" y="4551480"/>
            <a:ext cx="68580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1814400" y="5813280"/>
            <a:ext cx="685800" cy="66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 Narro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3757680" y="5784840"/>
            <a:ext cx="68580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 Narro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5143680" y="4498920"/>
            <a:ext cx="2043000" cy="1906560"/>
            <a:chOff x="5143680" y="4498920"/>
            <a:chExt cx="2043000" cy="1906560"/>
          </a:xfrm>
        </p:grpSpPr>
        <p:sp>
          <p:nvSpPr>
            <p:cNvPr id="336" name="Oval 10"/>
            <p:cNvSpPr/>
            <p:nvPr/>
          </p:nvSpPr>
          <p:spPr>
            <a:xfrm>
              <a:off x="5143680" y="4498920"/>
              <a:ext cx="685800" cy="663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e4a8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6500880" y="4556160"/>
              <a:ext cx="685800" cy="663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e4a8"/>
                  </a:solidFill>
                  <a:latin typeface="Arial Narrow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5243760" y="5742000"/>
              <a:ext cx="685800" cy="663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e4a8"/>
                  </a:solidFill>
                  <a:latin typeface="Arial Narro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Line 13"/>
          <p:cNvSpPr/>
          <p:nvPr/>
        </p:nvSpPr>
        <p:spPr>
          <a:xfrm flipH="1">
            <a:off x="2557440" y="4156200"/>
            <a:ext cx="442800" cy="50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4"/>
          <p:cNvSpPr/>
          <p:nvPr/>
        </p:nvSpPr>
        <p:spPr>
          <a:xfrm>
            <a:off x="2614680" y="5170320"/>
            <a:ext cx="1200240" cy="75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5"/>
          <p:cNvSpPr/>
          <p:nvPr/>
        </p:nvSpPr>
        <p:spPr>
          <a:xfrm flipH="1">
            <a:off x="2114640" y="5227560"/>
            <a:ext cx="156960" cy="6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3529080" y="4141800"/>
            <a:ext cx="34272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7"/>
          <p:cNvSpPr/>
          <p:nvPr/>
        </p:nvSpPr>
        <p:spPr>
          <a:xfrm flipH="1">
            <a:off x="4400640" y="4827600"/>
            <a:ext cx="74304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8"/>
          <p:cNvSpPr/>
          <p:nvPr/>
        </p:nvSpPr>
        <p:spPr>
          <a:xfrm>
            <a:off x="5486400" y="5141880"/>
            <a:ext cx="57240" cy="6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914560" y="3594240"/>
            <a:ext cx="685800" cy="6634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009880" y="4575240"/>
            <a:ext cx="685800" cy="6634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3710160" y="4546440"/>
            <a:ext cx="685800" cy="6638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1814400" y="5808600"/>
            <a:ext cx="685800" cy="6634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23"/>
          <p:cNvSpPr/>
          <p:nvPr/>
        </p:nvSpPr>
        <p:spPr>
          <a:xfrm>
            <a:off x="3757680" y="5780160"/>
            <a:ext cx="685800" cy="6634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Group 24"/>
          <p:cNvGrpSpPr/>
          <p:nvPr/>
        </p:nvGrpSpPr>
        <p:grpSpPr>
          <a:xfrm>
            <a:off x="5138640" y="4494240"/>
            <a:ext cx="2043000" cy="1906560"/>
            <a:chOff x="5138640" y="4494240"/>
            <a:chExt cx="2043000" cy="1906560"/>
          </a:xfrm>
        </p:grpSpPr>
        <p:sp>
          <p:nvSpPr>
            <p:cNvPr id="351" name="Oval 25"/>
            <p:cNvSpPr/>
            <p:nvPr/>
          </p:nvSpPr>
          <p:spPr>
            <a:xfrm>
              <a:off x="5138640" y="4494240"/>
              <a:ext cx="685800" cy="66348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26"/>
            <p:cNvSpPr/>
            <p:nvPr/>
          </p:nvSpPr>
          <p:spPr>
            <a:xfrm>
              <a:off x="6495840" y="4551480"/>
              <a:ext cx="685800" cy="66348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Narrow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27"/>
            <p:cNvSpPr/>
            <p:nvPr/>
          </p:nvSpPr>
          <p:spPr>
            <a:xfrm>
              <a:off x="5238360" y="5737320"/>
              <a:ext cx="685800" cy="66348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Narro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Rectangle 28"/>
          <p:cNvSpPr/>
          <p:nvPr/>
        </p:nvSpPr>
        <p:spPr>
          <a:xfrm>
            <a:off x="444600" y="1746360"/>
            <a:ext cx="8699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2856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Times New Roman"/>
              </a:rPr>
              <a:t>Live Objec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reachable from th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444600" y="2203560"/>
            <a:ext cx="8699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2856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Times New Roman"/>
              </a:rPr>
              <a:t>Garbage (Dead Objects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not reachable from the roots, not accessible to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631800" y="1655640"/>
            <a:ext cx="1671480" cy="2949840"/>
            <a:chOff x="631800" y="1655640"/>
            <a:chExt cx="1671480" cy="2949840"/>
          </a:xfrm>
        </p:grpSpPr>
        <p:sp>
          <p:nvSpPr>
            <p:cNvPr id="357" name="Rectangle 3"/>
            <p:cNvSpPr/>
            <p:nvPr/>
          </p:nvSpPr>
          <p:spPr>
            <a:xfrm>
              <a:off x="1033200" y="1655640"/>
              <a:ext cx="103032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Narrow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>
              <a:off x="1033200" y="2030400"/>
              <a:ext cx="103032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1033200" y="2398680"/>
              <a:ext cx="103032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033200" y="2770200"/>
              <a:ext cx="103032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1033200" y="3143160"/>
              <a:ext cx="103032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1033200" y="3516480"/>
              <a:ext cx="1030320" cy="34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033200" y="3884760"/>
              <a:ext cx="1030320" cy="34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1033200" y="4257720"/>
              <a:ext cx="103032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rc 11"/>
            <p:cNvSpPr/>
            <p:nvPr/>
          </p:nvSpPr>
          <p:spPr>
            <a:xfrm flipH="1">
              <a:off x="873720" y="1827360"/>
              <a:ext cx="157320" cy="768240"/>
            </a:xfrm>
            <a:custGeom>
              <a:avLst/>
              <a:gdLst/>
              <a:ahLst/>
              <a:rect l="l" t="t" r="r" b="b"/>
              <a:pathLst>
                <a:path fill="none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</a:path>
                <a:path stroke="0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rc 12"/>
            <p:cNvSpPr/>
            <p:nvPr/>
          </p:nvSpPr>
          <p:spPr>
            <a:xfrm flipH="1">
              <a:off x="631800" y="1830240"/>
              <a:ext cx="382320" cy="1828800"/>
            </a:xfrm>
            <a:custGeom>
              <a:avLst/>
              <a:gdLst/>
              <a:ahLst/>
              <a:rect l="l" t="t" r="r" b="b"/>
              <a:pathLst>
                <a:path fill="none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</a:path>
                <a:path stroke="0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  <a:lnTo>
                    <a:pt x="416" y="21600"/>
                  </a:lnTo>
                  <a:lnTo>
                    <a:pt x="41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rc 13"/>
            <p:cNvSpPr/>
            <p:nvPr/>
          </p:nvSpPr>
          <p:spPr>
            <a:xfrm flipH="1">
              <a:off x="817560" y="3686040"/>
              <a:ext cx="201600" cy="785880"/>
            </a:xfrm>
            <a:custGeom>
              <a:avLst/>
              <a:gdLst/>
              <a:ahLst/>
              <a:rect l="l" t="t" r="r" b="b"/>
              <a:pathLst>
                <a:path fill="none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</a:path>
                <a:path stroke="0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  <a:lnTo>
                    <a:pt x="1531" y="21600"/>
                  </a:lnTo>
                  <a:lnTo>
                    <a:pt x="153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rc 14"/>
            <p:cNvSpPr/>
            <p:nvPr/>
          </p:nvSpPr>
          <p:spPr>
            <a:xfrm>
              <a:off x="2046240" y="2957400"/>
              <a:ext cx="257040" cy="1100160"/>
            </a:xfrm>
            <a:custGeom>
              <a:avLst/>
              <a:gdLst/>
              <a:ahLst/>
              <a:rect l="l" t="t" r="r" b="b"/>
              <a:pathLst>
                <a:path fill="none" w="21600" h="4319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95"/>
                    <a:pt x="12137" y="43009"/>
                    <a:pt x="343" y="43197"/>
                  </a:cubicBezTo>
                </a:path>
                <a:path stroke="0" w="21600" h="4319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95"/>
                    <a:pt x="12137" y="43009"/>
                    <a:pt x="343" y="4319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2773440" y="1650960"/>
            <a:ext cx="1690560" cy="2949480"/>
            <a:chOff x="2773440" y="1650960"/>
            <a:chExt cx="1690560" cy="2949480"/>
          </a:xfrm>
        </p:grpSpPr>
        <p:sp>
          <p:nvSpPr>
            <p:cNvPr id="370" name="Rectangle 16"/>
            <p:cNvSpPr/>
            <p:nvPr/>
          </p:nvSpPr>
          <p:spPr>
            <a:xfrm>
              <a:off x="3179520" y="1650960"/>
              <a:ext cx="102564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Narrow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7"/>
            <p:cNvSpPr/>
            <p:nvPr/>
          </p:nvSpPr>
          <p:spPr>
            <a:xfrm>
              <a:off x="3176640" y="2025720"/>
              <a:ext cx="1030320" cy="34776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3176640" y="2394000"/>
              <a:ext cx="103032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3176640" y="2765520"/>
              <a:ext cx="1030320" cy="34740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0"/>
            <p:cNvSpPr/>
            <p:nvPr/>
          </p:nvSpPr>
          <p:spPr>
            <a:xfrm>
              <a:off x="3176640" y="3138480"/>
              <a:ext cx="1030320" cy="34776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3174840" y="3511440"/>
              <a:ext cx="103032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2"/>
            <p:cNvSpPr/>
            <p:nvPr/>
          </p:nvSpPr>
          <p:spPr>
            <a:xfrm>
              <a:off x="3174840" y="3879720"/>
              <a:ext cx="1030320" cy="34776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3174840" y="4253040"/>
              <a:ext cx="1030320" cy="3474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rc 24"/>
            <p:cNvSpPr/>
            <p:nvPr/>
          </p:nvSpPr>
          <p:spPr>
            <a:xfrm flipH="1">
              <a:off x="3015360" y="1822320"/>
              <a:ext cx="157320" cy="768600"/>
            </a:xfrm>
            <a:custGeom>
              <a:avLst/>
              <a:gdLst/>
              <a:ahLst/>
              <a:rect l="l" t="t" r="r" b="b"/>
              <a:pathLst>
                <a:path fill="none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</a:path>
                <a:path stroke="0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rc 25"/>
            <p:cNvSpPr/>
            <p:nvPr/>
          </p:nvSpPr>
          <p:spPr>
            <a:xfrm flipH="1">
              <a:off x="2773440" y="1825560"/>
              <a:ext cx="382320" cy="1828800"/>
            </a:xfrm>
            <a:custGeom>
              <a:avLst/>
              <a:gdLst/>
              <a:ahLst/>
              <a:rect l="l" t="t" r="r" b="b"/>
              <a:pathLst>
                <a:path fill="none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</a:path>
                <a:path stroke="0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  <a:lnTo>
                    <a:pt x="416" y="21600"/>
                  </a:lnTo>
                  <a:lnTo>
                    <a:pt x="41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rc 26"/>
            <p:cNvSpPr/>
            <p:nvPr/>
          </p:nvSpPr>
          <p:spPr>
            <a:xfrm flipH="1">
              <a:off x="2959200" y="3681360"/>
              <a:ext cx="201600" cy="785880"/>
            </a:xfrm>
            <a:custGeom>
              <a:avLst/>
              <a:gdLst/>
              <a:ahLst/>
              <a:rect l="l" t="t" r="r" b="b"/>
              <a:pathLst>
                <a:path fill="none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</a:path>
                <a:path stroke="0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  <a:lnTo>
                    <a:pt x="1531" y="21600"/>
                  </a:lnTo>
                  <a:lnTo>
                    <a:pt x="153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Arc 27"/>
            <p:cNvSpPr/>
            <p:nvPr/>
          </p:nvSpPr>
          <p:spPr>
            <a:xfrm>
              <a:off x="4206960" y="2952720"/>
              <a:ext cx="257040" cy="1100160"/>
            </a:xfrm>
            <a:custGeom>
              <a:avLst/>
              <a:gdLst/>
              <a:ahLst/>
              <a:rect l="l" t="t" r="r" b="b"/>
              <a:pathLst>
                <a:path fill="none" w="21600" h="4319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95"/>
                    <a:pt x="12137" y="43009"/>
                    <a:pt x="343" y="43197"/>
                  </a:cubicBezTo>
                </a:path>
                <a:path stroke="0" w="21600" h="4319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95"/>
                    <a:pt x="12137" y="43009"/>
                    <a:pt x="343" y="4319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28"/>
          <p:cNvGrpSpPr/>
          <p:nvPr/>
        </p:nvGrpSpPr>
        <p:grpSpPr>
          <a:xfrm>
            <a:off x="4788000" y="1650960"/>
            <a:ext cx="1433520" cy="2949480"/>
            <a:chOff x="4788000" y="1650960"/>
            <a:chExt cx="1433520" cy="2949480"/>
          </a:xfrm>
        </p:grpSpPr>
        <p:sp>
          <p:nvSpPr>
            <p:cNvPr id="383" name="Rectangle 29"/>
            <p:cNvSpPr/>
            <p:nvPr/>
          </p:nvSpPr>
          <p:spPr>
            <a:xfrm>
              <a:off x="5194440" y="1650960"/>
              <a:ext cx="102528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Narrow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5191200" y="2025720"/>
              <a:ext cx="1030320" cy="34776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5191200" y="2394000"/>
              <a:ext cx="103032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32"/>
            <p:cNvSpPr/>
            <p:nvPr/>
          </p:nvSpPr>
          <p:spPr>
            <a:xfrm>
              <a:off x="5191200" y="2765520"/>
              <a:ext cx="1030320" cy="72396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5189400" y="3511440"/>
              <a:ext cx="103032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4"/>
            <p:cNvSpPr/>
            <p:nvPr/>
          </p:nvSpPr>
          <p:spPr>
            <a:xfrm>
              <a:off x="5189400" y="3879720"/>
              <a:ext cx="1030320" cy="34776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5"/>
            <p:cNvSpPr/>
            <p:nvPr/>
          </p:nvSpPr>
          <p:spPr>
            <a:xfrm>
              <a:off x="5189400" y="4253040"/>
              <a:ext cx="1030320" cy="3474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Arc 36"/>
            <p:cNvSpPr/>
            <p:nvPr/>
          </p:nvSpPr>
          <p:spPr>
            <a:xfrm flipH="1">
              <a:off x="5029920" y="1822320"/>
              <a:ext cx="157320" cy="768600"/>
            </a:xfrm>
            <a:custGeom>
              <a:avLst/>
              <a:gdLst/>
              <a:ahLst/>
              <a:rect l="l" t="t" r="r" b="b"/>
              <a:pathLst>
                <a:path fill="none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</a:path>
                <a:path stroke="0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Arc 37"/>
            <p:cNvSpPr/>
            <p:nvPr/>
          </p:nvSpPr>
          <p:spPr>
            <a:xfrm flipH="1">
              <a:off x="4788000" y="1825560"/>
              <a:ext cx="382320" cy="1828800"/>
            </a:xfrm>
            <a:custGeom>
              <a:avLst/>
              <a:gdLst/>
              <a:ahLst/>
              <a:rect l="l" t="t" r="r" b="b"/>
              <a:pathLst>
                <a:path fill="none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</a:path>
                <a:path stroke="0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  <a:lnTo>
                    <a:pt x="416" y="21600"/>
                  </a:lnTo>
                  <a:lnTo>
                    <a:pt x="41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rc 38"/>
            <p:cNvSpPr/>
            <p:nvPr/>
          </p:nvSpPr>
          <p:spPr>
            <a:xfrm flipH="1">
              <a:off x="4973760" y="3681360"/>
              <a:ext cx="201600" cy="785880"/>
            </a:xfrm>
            <a:custGeom>
              <a:avLst/>
              <a:gdLst/>
              <a:ahLst/>
              <a:rect l="l" t="t" r="r" b="b"/>
              <a:pathLst>
                <a:path fill="none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</a:path>
                <a:path stroke="0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  <a:lnTo>
                    <a:pt x="1531" y="21600"/>
                  </a:lnTo>
                  <a:lnTo>
                    <a:pt x="153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39"/>
          <p:cNvGrpSpPr/>
          <p:nvPr/>
        </p:nvGrpSpPr>
        <p:grpSpPr>
          <a:xfrm>
            <a:off x="6609960" y="1679400"/>
            <a:ext cx="1433880" cy="2949840"/>
            <a:chOff x="6609960" y="1679400"/>
            <a:chExt cx="1433880" cy="2949840"/>
          </a:xfrm>
        </p:grpSpPr>
        <p:sp>
          <p:nvSpPr>
            <p:cNvPr id="394" name="Rectangle 40"/>
            <p:cNvSpPr/>
            <p:nvPr/>
          </p:nvSpPr>
          <p:spPr>
            <a:xfrm>
              <a:off x="7016760" y="1679400"/>
              <a:ext cx="1025640" cy="3477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Narrow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7013520" y="2054160"/>
              <a:ext cx="1030320" cy="3477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7013520" y="2422440"/>
              <a:ext cx="1030320" cy="3477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7013520" y="2793960"/>
              <a:ext cx="1030320" cy="3477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 Narro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7016760" y="3152880"/>
              <a:ext cx="1025640" cy="147636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Arc 45"/>
            <p:cNvSpPr/>
            <p:nvPr/>
          </p:nvSpPr>
          <p:spPr>
            <a:xfrm flipH="1">
              <a:off x="6852600" y="1851120"/>
              <a:ext cx="128520" cy="411120"/>
            </a:xfrm>
            <a:custGeom>
              <a:avLst/>
              <a:gdLst/>
              <a:ahLst/>
              <a:rect l="l" t="t" r="r" b="b"/>
              <a:pathLst>
                <a:path fill="none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</a:path>
                <a:path stroke="0" w="21600" h="430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594"/>
                    <a:pt x="13340" y="41835"/>
                    <a:pt x="2414" y="4306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Arc 46"/>
            <p:cNvSpPr/>
            <p:nvPr/>
          </p:nvSpPr>
          <p:spPr>
            <a:xfrm flipH="1">
              <a:off x="6609600" y="1854360"/>
              <a:ext cx="382680" cy="742680"/>
            </a:xfrm>
            <a:custGeom>
              <a:avLst/>
              <a:gdLst/>
              <a:ahLst/>
              <a:rect l="l" t="t" r="r" b="b"/>
              <a:pathLst>
                <a:path fill="none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</a:path>
                <a:path stroke="0" w="22016" h="43200">
                  <a:moveTo>
                    <a:pt x="415" y="0"/>
                  </a:moveTo>
                  <a:cubicBezTo>
                    <a:pt x="12345" y="0"/>
                    <a:pt x="22016" y="9670"/>
                    <a:pt x="22016" y="21600"/>
                  </a:cubicBezTo>
                  <a:cubicBezTo>
                    <a:pt x="22016" y="-32007"/>
                    <a:pt x="12345" y="-22336"/>
                    <a:pt x="416" y="-22336"/>
                  </a:cubicBezTo>
                  <a:cubicBezTo>
                    <a:pt x="277" y="-22336"/>
                    <a:pt x="138" y="-22338"/>
                    <a:pt x="0" y="-22341"/>
                  </a:cubicBezTo>
                  <a:lnTo>
                    <a:pt x="416" y="21600"/>
                  </a:lnTo>
                  <a:lnTo>
                    <a:pt x="41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Arc 47"/>
            <p:cNvSpPr/>
            <p:nvPr/>
          </p:nvSpPr>
          <p:spPr>
            <a:xfrm flipH="1">
              <a:off x="6810480" y="2624040"/>
              <a:ext cx="172800" cy="385920"/>
            </a:xfrm>
            <a:custGeom>
              <a:avLst/>
              <a:gdLst/>
              <a:ahLst/>
              <a:rect l="l" t="t" r="r" b="b"/>
              <a:pathLst>
                <a:path fill="none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</a:path>
                <a:path stroke="0" w="23131" h="43200">
                  <a:moveTo>
                    <a:pt x="1530" y="0"/>
                  </a:moveTo>
                  <a:cubicBezTo>
                    <a:pt x="13460" y="0"/>
                    <a:pt x="23131" y="9670"/>
                    <a:pt x="23131" y="21600"/>
                  </a:cubicBezTo>
                  <a:cubicBezTo>
                    <a:pt x="23131" y="-32007"/>
                    <a:pt x="13460" y="-22336"/>
                    <a:pt x="1531" y="-22336"/>
                  </a:cubicBezTo>
                  <a:cubicBezTo>
                    <a:pt x="1020" y="-22336"/>
                    <a:pt x="509" y="-22355"/>
                    <a:pt x="0" y="-22391"/>
                  </a:cubicBezTo>
                  <a:lnTo>
                    <a:pt x="1531" y="21600"/>
                  </a:lnTo>
                  <a:lnTo>
                    <a:pt x="153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48"/>
          <p:cNvSpPr/>
          <p:nvPr/>
        </p:nvSpPr>
        <p:spPr>
          <a:xfrm>
            <a:off x="743040" y="4789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 Narrow"/>
              </a:rPr>
              <a:t>Before 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49"/>
          <p:cNvGrpSpPr/>
          <p:nvPr/>
        </p:nvGrpSpPr>
        <p:grpSpPr>
          <a:xfrm>
            <a:off x="716040" y="5535720"/>
            <a:ext cx="1260000" cy="520560"/>
            <a:chOff x="716040" y="5535720"/>
            <a:chExt cx="1260000" cy="520560"/>
          </a:xfrm>
        </p:grpSpPr>
        <p:sp>
          <p:nvSpPr>
            <p:cNvPr id="404" name="Rectangle 50"/>
            <p:cNvSpPr/>
            <p:nvPr/>
          </p:nvSpPr>
          <p:spPr>
            <a:xfrm>
              <a:off x="716040" y="5632560"/>
              <a:ext cx="372960" cy="3477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1213200" y="5535720"/>
              <a:ext cx="76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Arial Narrow"/>
                </a:rPr>
                <a:t>L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52"/>
          <p:cNvGrpSpPr/>
          <p:nvPr/>
        </p:nvGrpSpPr>
        <p:grpSpPr>
          <a:xfrm>
            <a:off x="2452680" y="5535720"/>
            <a:ext cx="1860120" cy="520560"/>
            <a:chOff x="2452680" y="5535720"/>
            <a:chExt cx="1860120" cy="520560"/>
          </a:xfrm>
        </p:grpSpPr>
        <p:sp>
          <p:nvSpPr>
            <p:cNvPr id="407" name="Rectangle 53"/>
            <p:cNvSpPr/>
            <p:nvPr/>
          </p:nvSpPr>
          <p:spPr>
            <a:xfrm>
              <a:off x="2452680" y="5632560"/>
              <a:ext cx="372960" cy="34776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54"/>
            <p:cNvSpPr/>
            <p:nvPr/>
          </p:nvSpPr>
          <p:spPr>
            <a:xfrm>
              <a:off x="2950920" y="5535720"/>
              <a:ext cx="13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Arial Narrow"/>
                </a:rPr>
                <a:t>Garb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55"/>
          <p:cNvGrpSpPr/>
          <p:nvPr/>
        </p:nvGrpSpPr>
        <p:grpSpPr>
          <a:xfrm>
            <a:off x="4930920" y="5535720"/>
            <a:ext cx="1990800" cy="520560"/>
            <a:chOff x="4930920" y="5535720"/>
            <a:chExt cx="1990800" cy="520560"/>
          </a:xfrm>
        </p:grpSpPr>
        <p:sp>
          <p:nvSpPr>
            <p:cNvPr id="410" name="Rectangle 56"/>
            <p:cNvSpPr/>
            <p:nvPr/>
          </p:nvSpPr>
          <p:spPr>
            <a:xfrm>
              <a:off x="4930920" y="5632560"/>
              <a:ext cx="372960" cy="347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57"/>
            <p:cNvSpPr/>
            <p:nvPr/>
          </p:nvSpPr>
          <p:spPr>
            <a:xfrm>
              <a:off x="5428800" y="553572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Arial Narrow"/>
                </a:rPr>
                <a:t>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58"/>
          <p:cNvGrpSpPr/>
          <p:nvPr/>
        </p:nvGrpSpPr>
        <p:grpSpPr>
          <a:xfrm>
            <a:off x="7445520" y="5535720"/>
            <a:ext cx="1231560" cy="520560"/>
            <a:chOff x="7445520" y="5535720"/>
            <a:chExt cx="1231560" cy="520560"/>
          </a:xfrm>
        </p:grpSpPr>
        <p:sp>
          <p:nvSpPr>
            <p:cNvPr id="413" name="Rectangle 59"/>
            <p:cNvSpPr/>
            <p:nvPr/>
          </p:nvSpPr>
          <p:spPr>
            <a:xfrm>
              <a:off x="7445520" y="5694480"/>
              <a:ext cx="372960" cy="34740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60"/>
            <p:cNvSpPr/>
            <p:nvPr/>
          </p:nvSpPr>
          <p:spPr>
            <a:xfrm>
              <a:off x="7882200" y="553572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Text Box 61"/>
          <p:cNvSpPr/>
          <p:nvPr/>
        </p:nvSpPr>
        <p:spPr>
          <a:xfrm>
            <a:off x="2834640" y="479124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 Narrow"/>
              </a:rPr>
              <a:t>After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2"/>
          <p:cNvSpPr/>
          <p:nvPr/>
        </p:nvSpPr>
        <p:spPr>
          <a:xfrm>
            <a:off x="4815360" y="479124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 Narrow"/>
              </a:rPr>
              <a:t>After 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63"/>
          <p:cNvSpPr/>
          <p:nvPr/>
        </p:nvSpPr>
        <p:spPr>
          <a:xfrm>
            <a:off x="6696000" y="47912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 Narrow"/>
              </a:rPr>
              <a:t>After 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 / Sweep / Comp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of J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152280" y="1219320"/>
            <a:ext cx="8305560" cy="5104800"/>
            <a:chOff x="152280" y="1219320"/>
            <a:chExt cx="8305560" cy="5104800"/>
          </a:xfrm>
        </p:grpSpPr>
        <p:sp>
          <p:nvSpPr>
            <p:cNvPr id="421" name="Rectangle 4"/>
            <p:cNvSpPr/>
            <p:nvPr/>
          </p:nvSpPr>
          <p:spPr>
            <a:xfrm>
              <a:off x="2263680" y="1219320"/>
              <a:ext cx="253368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2334240" y="175680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lass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2334240" y="2293920"/>
              <a:ext cx="2392920" cy="537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stant P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7"/>
            <p:cNvSpPr/>
            <p:nvPr/>
          </p:nvSpPr>
          <p:spPr>
            <a:xfrm>
              <a:off x="2334240" y="2831400"/>
              <a:ext cx="2392920" cy="537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thod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8"/>
            <p:cNvSpPr/>
            <p:nvPr/>
          </p:nvSpPr>
          <p:spPr>
            <a:xfrm>
              <a:off x="493848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6064560" y="1219320"/>
              <a:ext cx="9853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0"/>
            <p:cNvSpPr/>
            <p:nvPr/>
          </p:nvSpPr>
          <p:spPr>
            <a:xfrm>
              <a:off x="7191000" y="1219320"/>
              <a:ext cx="1125720" cy="2283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1"/>
            <p:cNvSpPr/>
            <p:nvPr/>
          </p:nvSpPr>
          <p:spPr>
            <a:xfrm>
              <a:off x="4375440" y="3772080"/>
              <a:ext cx="2111400" cy="201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xec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Eng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12"/>
            <p:cNvSpPr/>
            <p:nvPr/>
          </p:nvSpPr>
          <p:spPr>
            <a:xfrm>
              <a:off x="6909480" y="4040280"/>
              <a:ext cx="1548360" cy="1007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"/>
            <p:cNvSpPr/>
            <p:nvPr/>
          </p:nvSpPr>
          <p:spPr>
            <a:xfrm>
              <a:off x="2545560" y="4309200"/>
              <a:ext cx="1548000" cy="873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4"/>
            <p:cNvSpPr/>
            <p:nvPr/>
          </p:nvSpPr>
          <p:spPr>
            <a:xfrm>
              <a:off x="433800" y="5316840"/>
              <a:ext cx="1759320" cy="873000"/>
            </a:xfrm>
            <a:prstGeom prst="can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Cloud"/>
            <p:cNvSpPr/>
            <p:nvPr/>
          </p:nvSpPr>
          <p:spPr>
            <a:xfrm>
              <a:off x="152280" y="3637440"/>
              <a:ext cx="2111400" cy="1141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*.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6"/>
            <p:cNvSpPr/>
            <p:nvPr/>
          </p:nvSpPr>
          <p:spPr>
            <a:xfrm>
              <a:off x="4516200" y="3973320"/>
              <a:ext cx="1759680" cy="671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C, FP, S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17"/>
            <p:cNvSpPr/>
            <p:nvPr/>
          </p:nvSpPr>
          <p:spPr>
            <a:xfrm rot="1631400">
              <a:off x="1989360" y="454716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18"/>
            <p:cNvSpPr/>
            <p:nvPr/>
          </p:nvSpPr>
          <p:spPr>
            <a:xfrm rot="19781400">
              <a:off x="1991160" y="5014440"/>
              <a:ext cx="492480" cy="268200"/>
            </a:xfrm>
            <a:prstGeom prst="rightArrow">
              <a:avLst>
                <a:gd name="adj1" fmla="val 50000"/>
                <a:gd name="adj2" fmla="val 4590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AutoShape 19"/>
            <p:cNvSpPr/>
            <p:nvPr/>
          </p:nvSpPr>
          <p:spPr>
            <a:xfrm>
              <a:off x="3249000" y="3570480"/>
              <a:ext cx="422280" cy="671400"/>
            </a:xfrm>
            <a:prstGeom prst="upArrow">
              <a:avLst>
                <a:gd name="adj1" fmla="val 50000"/>
                <a:gd name="adj2" fmla="val 3974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0"/>
            <p:cNvSpPr/>
            <p:nvPr/>
          </p:nvSpPr>
          <p:spPr>
            <a:xfrm>
              <a:off x="6909480" y="5451120"/>
              <a:ext cx="1548360" cy="87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1"/>
            <p:cNvSpPr/>
            <p:nvPr/>
          </p:nvSpPr>
          <p:spPr>
            <a:xfrm>
              <a:off x="7683480" y="5047920"/>
              <a:ext cx="0" cy="40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2"/>
            <p:cNvSpPr/>
            <p:nvPr/>
          </p:nvSpPr>
          <p:spPr>
            <a:xfrm>
              <a:off x="7683480" y="3503160"/>
              <a:ext cx="0" cy="53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>
              <a:off x="6487200" y="4578120"/>
              <a:ext cx="42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s Java bytecodes either using interpreter or Just-In-Time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Program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Frame Poi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Operand Stack Top Poi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 vs Just-In-Tim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533520" y="434340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33520" y="327672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533520" y="205740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6934320" y="297180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434340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3886200" y="259092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6477120" y="106668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10"/>
          <p:cNvSpPr/>
          <p:nvPr/>
        </p:nvSpPr>
        <p:spPr>
          <a:xfrm>
            <a:off x="7467480" y="23623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6248520" y="33526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508320" y="5705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5259600" y="570564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1295280" y="1905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Comic Sans MS"/>
              </a:rPr>
              <a:t>a = (b + c) </a:t>
            </a:r>
            <a:r>
              <a:rPr b="0" lang="fr-CA" sz="1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fr-CA" sz="1800" spc="-1" strike="noStrike">
                <a:solidFill>
                  <a:srgbClr val="003366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5"/>
          <p:cNvGrpSpPr/>
          <p:nvPr/>
        </p:nvGrpSpPr>
        <p:grpSpPr>
          <a:xfrm>
            <a:off x="3200400" y="2362320"/>
            <a:ext cx="4266720" cy="3429000"/>
            <a:chOff x="3200400" y="2362320"/>
            <a:chExt cx="4266720" cy="3429000"/>
          </a:xfrm>
        </p:grpSpPr>
        <p:sp>
          <p:nvSpPr>
            <p:cNvPr id="457" name="Text Box 6"/>
            <p:cNvSpPr/>
            <p:nvPr/>
          </p:nvSpPr>
          <p:spPr>
            <a:xfrm>
              <a:off x="3809880" y="3392640"/>
              <a:ext cx="365724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load_2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variable 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load_3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variable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add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addi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const_2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load constant value 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mul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multiplic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istore_1 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	</a:t>
              </a:r>
              <a:r>
                <a:rPr b="0" lang="fr-CA" sz="1600" spc="-1" strike="noStrike">
                  <a:solidFill>
                    <a:srgbClr val="003366"/>
                  </a:solidFill>
                  <a:latin typeface="Comic Sans MS"/>
                </a:rPr>
                <a:t>(save the value of 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3657240" y="3200400"/>
              <a:ext cx="380988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3200400" y="236232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6171840" y="28195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3366"/>
                  </a:solidFill>
                  <a:latin typeface="Comic Sans MS"/>
                </a:rPr>
                <a:t>Byteco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6171840" y="2743200"/>
              <a:ext cx="1295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tecode Interpreter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1066680" y="1219320"/>
            <a:ext cx="7239240" cy="518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tecode interpreter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Slow: 10 ~ 100 times slower than execution of nativ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-In-Tim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compiles bytecode into native code at runtime, usually in method granu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of native code is much faster than interpretation of byt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is time consuming and may slow down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offs between execution time and compilat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Jav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4495680" y="1219320"/>
          <a:ext cx="44118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19320"/>
                    <a:ext cx="44118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1295280" y="25909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ly, Java is the most popular language in the world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iv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daptive Compiler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t three thresholds T1, T2 (T1&lt;T2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ach method has a counter that is initialized to 0. Whenever the method is invoked, increase its counter by 1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methods with counter lower than T1 are executed using interpret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a metho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 counter reaches T1, compile this method with simple optimiz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hen a metho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 counter reaches T2, recompile this method with advanced optimiz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762120" y="2819520"/>
            <a:ext cx="1371600" cy="12189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2971800" y="1708200"/>
            <a:ext cx="16002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c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2971800" y="2971800"/>
            <a:ext cx="16002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c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971800" y="4191120"/>
            <a:ext cx="16002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c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410080" y="1752480"/>
            <a:ext cx="2667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410080" y="3016080"/>
            <a:ext cx="2667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we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715000" y="1905120"/>
            <a:ext cx="91440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715000" y="3168720"/>
            <a:ext cx="91440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715000" y="4616280"/>
            <a:ext cx="9144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410080" y="4235400"/>
            <a:ext cx="2667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nu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715000" y="4387680"/>
            <a:ext cx="9144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13"/>
          <p:cNvCxnSpPr>
            <a:stCxn id="132" idx="3"/>
            <a:endCxn id="133" idx="2"/>
          </p:cNvCxnSpPr>
          <p:nvPr/>
        </p:nvCxnSpPr>
        <p:spPr>
          <a:xfrm flipV="1">
            <a:off x="2133720" y="2165040"/>
            <a:ext cx="838800" cy="12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14"/>
          <p:cNvCxnSpPr>
            <a:stCxn id="132" idx="3"/>
            <a:endCxn id="134" idx="2"/>
          </p:cNvCxnSpPr>
          <p:nvPr/>
        </p:nvCxnSpPr>
        <p:spPr>
          <a:xfrm>
            <a:off x="2133720" y="342864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15"/>
          <p:cNvCxnSpPr>
            <a:stCxn id="132" idx="3"/>
            <a:endCxn id="135" idx="2"/>
          </p:cNvCxnSpPr>
          <p:nvPr/>
        </p:nvCxnSpPr>
        <p:spPr>
          <a:xfrm>
            <a:off x="2133720" y="3428640"/>
            <a:ext cx="838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16"/>
          <p:cNvCxnSpPr>
            <a:stCxn id="133" idx="6"/>
            <a:endCxn id="138" idx="1"/>
          </p:cNvCxnSpPr>
          <p:nvPr/>
        </p:nvCxnSpPr>
        <p:spPr>
          <a:xfrm>
            <a:off x="4571640" y="2165400"/>
            <a:ext cx="11437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17"/>
          <p:cNvCxnSpPr>
            <a:stCxn id="134" idx="6"/>
            <a:endCxn id="139" idx="1"/>
          </p:cNvCxnSpPr>
          <p:nvPr/>
        </p:nvCxnSpPr>
        <p:spPr>
          <a:xfrm>
            <a:off x="4571640" y="3429000"/>
            <a:ext cx="11437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18"/>
          <p:cNvCxnSpPr>
            <a:stCxn id="135" idx="6"/>
            <a:endCxn id="142" idx="1"/>
          </p:cNvCxnSpPr>
          <p:nvPr/>
        </p:nvCxnSpPr>
        <p:spPr>
          <a:xfrm>
            <a:off x="4571640" y="4647960"/>
            <a:ext cx="11437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al compilati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533520" y="2819520"/>
            <a:ext cx="1371600" cy="12189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362320" y="3048120"/>
            <a:ext cx="106668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019920" y="1752480"/>
            <a:ext cx="26668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019920" y="3016080"/>
            <a:ext cx="26668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we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324480" y="1905120"/>
            <a:ext cx="91440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038480" y="3168720"/>
            <a:ext cx="14479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324480" y="4616280"/>
            <a:ext cx="9144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019920" y="4235400"/>
            <a:ext cx="266688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nu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324480" y="4387680"/>
            <a:ext cx="9144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11"/>
          <p:cNvCxnSpPr>
            <a:stCxn id="150" idx="3"/>
            <a:endCxn id="151" idx="2"/>
          </p:cNvCxnSpPr>
          <p:nvPr/>
        </p:nvCxnSpPr>
        <p:spPr>
          <a:xfrm>
            <a:off x="1905120" y="3428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12"/>
          <p:cNvCxnSpPr>
            <a:stCxn id="155" idx="0"/>
            <a:endCxn id="154" idx="1"/>
          </p:cNvCxnSpPr>
          <p:nvPr/>
        </p:nvCxnSpPr>
        <p:spPr>
          <a:xfrm flipV="1">
            <a:off x="4762080" y="2171160"/>
            <a:ext cx="1562760" cy="997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61" name="AutoShape 13"/>
          <p:cNvCxnSpPr>
            <a:stCxn id="151" idx="6"/>
            <a:endCxn id="155" idx="1"/>
          </p:cNvCxnSpPr>
          <p:nvPr/>
        </p:nvCxnSpPr>
        <p:spPr>
          <a:xfrm>
            <a:off x="3428640" y="342900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14"/>
          <p:cNvCxnSpPr>
            <a:stCxn id="155" idx="2"/>
            <a:endCxn id="158" idx="1"/>
          </p:cNvCxnSpPr>
          <p:nvPr/>
        </p:nvCxnSpPr>
        <p:spPr>
          <a:xfrm>
            <a:off x="4762080" y="3701880"/>
            <a:ext cx="1562760" cy="953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3" name="Rectangle 15"/>
          <p:cNvSpPr/>
          <p:nvPr/>
        </p:nvSpPr>
        <p:spPr>
          <a:xfrm>
            <a:off x="6324480" y="3168720"/>
            <a:ext cx="91440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16"/>
          <p:cNvCxnSpPr>
            <a:stCxn id="155" idx="3"/>
            <a:endCxn id="163" idx="1"/>
          </p:cNvCxnSpPr>
          <p:nvPr/>
        </p:nvCxnSpPr>
        <p:spPr>
          <a:xfrm>
            <a:off x="5486400" y="34351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ilatio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219320"/>
            <a:ext cx="15238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324160" y="1219320"/>
            <a:ext cx="15238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962520" y="1219320"/>
            <a:ext cx="15238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1066680" y="2514600"/>
            <a:ext cx="403884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838080" y="4038480"/>
            <a:ext cx="15242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438280" y="4038480"/>
            <a:ext cx="15242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038480" y="4038480"/>
            <a:ext cx="15242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2895480" y="19810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2895480" y="35053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838080" y="4876920"/>
            <a:ext cx="472464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va Virtual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5867280" y="106668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444000" y="1131840"/>
            <a:ext cx="22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va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5791320" y="396252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514200" y="4408560"/>
            <a:ext cx="199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va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Platforms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Java Platform cons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Virtual Machin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P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standard clas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in all platforms must satisfy JVM sp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classes can be tailored according to the resourc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levels of Java platform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2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2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Java Car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38080" y="1141560"/>
            <a:ext cx="8305920" cy="52592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Platforms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83840" y="6491160"/>
            <a:ext cx="46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KVM White Paper (Sun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crosyste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in the JVM Spe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ytecod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instruction set for Java Virtual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lass File Form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latform independent representation of Java binary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rification 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algorithm for identifying programs that cannot compromise the integrity of the JV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05:31:49Z</dcterms:created>
  <dc:creator>Quazi Abidur Rahman</dc:creator>
  <dc:description/>
  <dc:language>en-US</dc:language>
  <cp:lastModifiedBy>CoreI5</cp:lastModifiedBy>
  <dcterms:modified xsi:type="dcterms:W3CDTF">2012-02-24T13:09:02Z</dcterms:modified>
  <cp:revision>85</cp:revision>
  <dc:subject/>
  <dc:title>Slide 1</dc:title>
</cp:coreProperties>
</file>