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0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2133720" y="21844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4 : Polymorphis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1360440" y="1590840"/>
          <a:ext cx="644220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1590840"/>
                    <a:ext cx="644220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Binding wit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 appropriat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s defined for a class, then an object of that class can be output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ale aSale = new Sale("tire gauge", 9.9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aSal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produc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re gauge Price and total cost = $9.9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orks because of late bi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Binding wit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Binding wit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288800"/>
            <a:ext cx="75438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efinition of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akes a single argument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println(Object the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theObject.toString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urn, It invokes the version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takes a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as defined befor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exi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t, because of late binding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used, no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32508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ject knows the Definitions of its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of a class variable determines which method names can be used with the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object named by the variable determines which definition with the same method name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No Late Binding for Static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decision of which definition of a method to use is made at compile time, that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c bi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decision is made based o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ype of the variable naming the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uses static, not late, binding with privat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static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cas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, late binding would serve no purpo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n the case of a static method invoked using a calling object, it does make a dif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No Late Binding for Static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nnouncemen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static void announcement(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Sale class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nnouncemen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static void announcement(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DiscountSale class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No Late Binding for Static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previous example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)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Cla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bjects we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the following assignm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simple = discoun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w the two variables point to the same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particular,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variable names a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7400" y="1503360"/>
            <a:ext cx="7543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the invoc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simple.announcement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utput i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Sale 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at here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nnounce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tatic method invoked by a calling object (instead of its class 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 the type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imp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determined by its variable name, not the object that it refere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No Late Binding for Static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casting and Downca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42960"/>
            <a:ext cx="7543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pca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when an object of a derived class is assigned to a variable of a base class (or any ancestor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ale saleVariable; //Bas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Sale discountVariable = new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Sale("paint", 15,10); //Derived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aleVariable = discountVariable; //Upcas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saleVariable.toString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of late binding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bove uses the definition given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casting and Downca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7876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ownca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when a type cast is performed from a base class to a derived class (or from any ancestor class to any descendent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wncasting has to be done very care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many cases it doesn't make sense, or is illega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iscountVariable =              //will produ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(DiscountSale)saleVariable;//run-time err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iscountVariable = saleVariable //will produ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//compiler err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times, however, when downcasting is necessary, e.g., insid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for a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ale otherSale = (Sale)otherObject;//downcas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careful with downcasting because Java does not check it at compile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5153040" y="1201680"/>
          <a:ext cx="382896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3040" y="1201680"/>
                    <a:ext cx="382896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Group 6"/>
          <p:cNvGrpSpPr/>
          <p:nvPr/>
        </p:nvGrpSpPr>
        <p:grpSpPr>
          <a:xfrm>
            <a:off x="3842640" y="1575000"/>
            <a:ext cx="1250280" cy="560880"/>
            <a:chOff x="3842640" y="1575000"/>
            <a:chExt cx="1250280" cy="560880"/>
          </a:xfrm>
        </p:grpSpPr>
        <p:sp>
          <p:nvSpPr>
            <p:cNvPr id="85" name="AutoShape 7"/>
            <p:cNvSpPr/>
            <p:nvPr/>
          </p:nvSpPr>
          <p:spPr>
            <a:xfrm rot="4149000">
              <a:off x="4781520" y="156168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3842640" y="1800360"/>
              <a:ext cx="88128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7" name="Object 9"/>
          <p:cNvGraphicFramePr/>
          <p:nvPr/>
        </p:nvGraphicFramePr>
        <p:xfrm>
          <a:off x="1025640" y="4764240"/>
          <a:ext cx="5037120" cy="19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5640" y="4764240"/>
                    <a:ext cx="503712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20"/>
          <p:cNvGrpSpPr/>
          <p:nvPr/>
        </p:nvGrpSpPr>
        <p:grpSpPr>
          <a:xfrm>
            <a:off x="2614680" y="5248440"/>
            <a:ext cx="5630760" cy="409320"/>
            <a:chOff x="2614680" y="5248440"/>
            <a:chExt cx="5630760" cy="409320"/>
          </a:xfrm>
        </p:grpSpPr>
        <p:sp>
          <p:nvSpPr>
            <p:cNvPr id="90" name="Oval 10"/>
            <p:cNvSpPr/>
            <p:nvPr/>
          </p:nvSpPr>
          <p:spPr>
            <a:xfrm>
              <a:off x="2614680" y="5464080"/>
              <a:ext cx="1204920" cy="193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 flipV="1">
              <a:off x="3828960" y="5400720"/>
              <a:ext cx="23558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Text Box 12"/>
            <p:cNvSpPr/>
            <p:nvPr/>
          </p:nvSpPr>
          <p:spPr>
            <a:xfrm>
              <a:off x="6181560" y="5248440"/>
              <a:ext cx="20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Which bill() version ?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" name="Group 21"/>
          <p:cNvGrpSpPr/>
          <p:nvPr/>
        </p:nvGrpSpPr>
        <p:grpSpPr>
          <a:xfrm>
            <a:off x="2666880" y="5522760"/>
            <a:ext cx="5619960" cy="287640"/>
            <a:chOff x="2666880" y="5522760"/>
            <a:chExt cx="5619960" cy="287640"/>
          </a:xfrm>
        </p:grpSpPr>
        <p:sp>
          <p:nvSpPr>
            <p:cNvPr id="94" name="Oval 13"/>
            <p:cNvSpPr/>
            <p:nvPr/>
          </p:nvSpPr>
          <p:spPr>
            <a:xfrm>
              <a:off x="2666880" y="5616720"/>
              <a:ext cx="1204920" cy="193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3881520" y="5681160"/>
              <a:ext cx="23875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6222960" y="5522760"/>
              <a:ext cx="20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Which bill() version ?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Group 22"/>
          <p:cNvGrpSpPr/>
          <p:nvPr/>
        </p:nvGrpSpPr>
        <p:grpSpPr>
          <a:xfrm>
            <a:off x="1495440" y="5883120"/>
            <a:ext cx="6513480" cy="282960"/>
            <a:chOff x="1495440" y="5883120"/>
            <a:chExt cx="6513480" cy="282960"/>
          </a:xfrm>
        </p:grpSpPr>
        <p:sp>
          <p:nvSpPr>
            <p:cNvPr id="98" name="Oval 16"/>
            <p:cNvSpPr/>
            <p:nvPr/>
          </p:nvSpPr>
          <p:spPr>
            <a:xfrm>
              <a:off x="1495440" y="5883120"/>
              <a:ext cx="2098800" cy="21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3603600" y="5959440"/>
              <a:ext cx="23558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Text Box 18"/>
            <p:cNvSpPr/>
            <p:nvPr/>
          </p:nvSpPr>
          <p:spPr>
            <a:xfrm>
              <a:off x="5945040" y="5889600"/>
              <a:ext cx="206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Which bill() versions ?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Rectangle 19"/>
          <p:cNvSpPr/>
          <p:nvPr/>
        </p:nvSpPr>
        <p:spPr>
          <a:xfrm>
            <a:off x="144792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ory example to 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27" descr=""/>
          <p:cNvPicPr/>
          <p:nvPr/>
        </p:nvPicPr>
        <p:blipFill>
          <a:blip r:embed="rId5"/>
          <a:stretch/>
        </p:blipFill>
        <p:spPr>
          <a:xfrm>
            <a:off x="703440" y="2136600"/>
            <a:ext cx="410508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rst Look at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object inherits a method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s no parame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supposed to return a deep copy of the calling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he inherited version of the method was not designed to be used as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ead, each class is expected to override it with a more appropriate v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rst Look at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class has a copy constructor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for that class can use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py construct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create the copy returned by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Sale clone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new Sale(thi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another exa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DiscountSale clone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new DiscountSale(thi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Limitations of Copy Constru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hough the copy constructor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for a class appear to do the same thing, there are cases where only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given a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adcop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opies an array of s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is array of sales contains objects from a derived class o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.e.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 then the copy will be a plain sale, not a true 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4ca1"/>
                </a:solidFill>
                <a:latin typeface="Courier New"/>
              </a:rPr>
              <a:t>b[i] = new Sale(a[i]); //plain Sal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17600" y="4500720"/>
          <a:ext cx="416268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7600" y="4500720"/>
                    <a:ext cx="416268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Limitations of Copy Constru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used instead of the copy constructor, then (because of late binding) a true copy is made, even from objects of a derived class (e.g.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[i] = (a[i].clone());//DiscountSale 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reason this works is because the metho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s the same name in all classes, and polymorphism works with method na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py constructors name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ve different names, and polymorphism doesn't work with methods of different na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576520" y="4638600"/>
          <a:ext cx="4137120" cy="15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4638600"/>
                    <a:ext cx="413712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8 pages 506-53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three main programming mechanisms that constitute object-oriented programming (OO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ymorphism is the ability to associate many meanings to one method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does this through a special mechanism known a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3" descr="savitch_c04d10"/>
          <p:cNvPicPr/>
          <p:nvPr/>
        </p:nvPicPr>
        <p:blipFill>
          <a:blip r:embed="rId1"/>
          <a:stretch/>
        </p:blipFill>
        <p:spPr>
          <a:xfrm>
            <a:off x="1063800" y="1073160"/>
            <a:ext cx="7546680" cy="534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Bi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of associating a method definition with a method invocation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method definition is associated with its invocation when the code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mpil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at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arly bi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method definition is associated with its invocation when the method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invok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t run time), that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uses late binding for all methods (except privat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static method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69880" y="4894200"/>
            <a:ext cx="7101000" cy="1108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ssTh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nvoc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boolean lessThan (Sale otherSa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f (otherSale ==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Error: null obj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eturn (bill( ) &lt; otherSale.bill( 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double bill(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pric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double bill(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double fraction = discount/10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(1 - fraction) * getPrice( 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the following in a progra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ale simple = new sale("floor mat", 10.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Sale discount = new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Sale("floor mat", 11.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f (discount.lessThan(simple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$" + discount.bill()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" &lt; " + "$" + simple.bill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" because late-binding works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would b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$9.90 &lt; $10 because late-binding works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130640" y="5110200"/>
            <a:ext cx="2809800" cy="471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previous example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xpression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ement return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the output indicates, w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ssTh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is executed, it knows which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invo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fo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nd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thod fo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at w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was created and compiled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and it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did not yet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results are made possible by late-bi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2-10T07:47:32Z</dcterms:modified>
  <cp:revision>66</cp:revision>
  <dc:subject/>
  <dc:title>PowerPoint Presentation</dc:title>
</cp:coreProperties>
</file>