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196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800" y="137124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196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800" y="3858120"/>
            <a:ext cx="2466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213840"/>
            <a:ext cx="7307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6840" y="385812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1371240"/>
            <a:ext cx="37378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858120"/>
            <a:ext cx="76597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5"/>
          <p:cNvSpPr/>
          <p:nvPr/>
        </p:nvSpPr>
        <p:spPr>
          <a:xfrm>
            <a:off x="5263200" y="5410080"/>
            <a:ext cx="34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s prepared by Rose Williams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ghamton Univers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038480" y="5486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2"/>
          <p:cNvSpPr/>
          <p:nvPr/>
        </p:nvSpPr>
        <p:spPr>
          <a:xfrm>
            <a:off x="5270400" y="5321160"/>
            <a:ext cx="342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133720" y="2184480"/>
            <a:ext cx="64008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20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 1 : Inheritance 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12193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Fahd University of Petroleum &amp; Min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Science &amp;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2592720" y="129528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&amp; Computer Science Depar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riding a Method 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a derived class inherits methods from the base class, it can change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verrid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herited method if nece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order to override a method definition, a new definition of the method is simply placed in the class definition, just like any other method that is added to the derived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1"/>
          <p:cNvSpPr/>
          <p:nvPr/>
        </p:nvSpPr>
        <p:spPr>
          <a:xfrm>
            <a:off x="130320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loyee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152280" y="1252440"/>
            <a:ext cx="45342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Employe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rivat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String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name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rivat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Dat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hireDate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Employee( 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name = "No name"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hireDate = new Date("Jan", 1, 1000);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Employee(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String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theName,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Dat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theDate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if (theName ==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null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|| theDate ==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null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ystem.out.println("Error creating employee.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ystem.exit(0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name = theName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hireDate =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new Dat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(theDat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Employee(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Employe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originalObject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name = originalObject.name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hireDate =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new Dat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(originalObject.hireDat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546440" y="1252440"/>
            <a:ext cx="44881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 String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getName( 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return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name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Dat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getHireDate( 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return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new Date(hireDat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void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setName(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String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newName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if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(newName ==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null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ystem.out.println("Error setting name.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ystem.exit(0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name = newName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 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//Continue next slid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Straight Connector 3"/>
          <p:cNvSpPr/>
          <p:nvPr/>
        </p:nvSpPr>
        <p:spPr>
          <a:xfrm>
            <a:off x="4444920" y="965160"/>
            <a:ext cx="0" cy="589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130320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loyee Class 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1562040" y="1468440"/>
            <a:ext cx="55879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void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setHireDate(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Dat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newDate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if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(newDate ==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null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ystem.out.println("Fatal Error setting employee hire date.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ystem.exit(0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hireDate =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new Dat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(newDat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 String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oString( 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return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(name + " " + hireDate.toString( )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 boolean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equals(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Employe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otherEmployee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return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(name.equals(otherEmployee.name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amp;&amp; hireDate.equals(otherEmployee.hireDate)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//End Employee Clas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130320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rlyEmployee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52280" y="1252440"/>
            <a:ext cx="45342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 class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HourlyEmployee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extends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Employee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rivate double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wageRate;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rivate double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hours; //for the month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HourlyEmployee( )    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super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( 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wageRate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hours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HourlyEmployee(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String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theName,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Dat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theDate,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doubl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theWageRate,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doubl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theHour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super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(theName, theDat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if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((theWageRate &gt;= 0) &amp;&amp; (theHours &gt;= 0)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wageRate = theWageRate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hours = theHour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ystem.out.println("Fatal Error: creating an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                     illegal hourly employee.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ystem.exit(0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4546440" y="1252440"/>
            <a:ext cx="44881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HourlyEmployee(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HourlyEmploye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originalObject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super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(originalObjec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wageRate = originalObject.wageRate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hours = originalObject.hour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 double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getRate( )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return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wageRate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 double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getHours( 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return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hour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/**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    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Returns the pay for the month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 double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getPay( 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return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wageRate*hour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//Continue next slid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traight Connector 3"/>
          <p:cNvSpPr/>
          <p:nvPr/>
        </p:nvSpPr>
        <p:spPr>
          <a:xfrm>
            <a:off x="4444920" y="965160"/>
            <a:ext cx="0" cy="589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130320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rlyEmployee Class 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152280" y="1252440"/>
            <a:ext cx="45342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 void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setHours(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doubl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hoursWorked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if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(hoursWorked &gt;= 0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hours = hoursWorked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ystem.out.println("Error: Negative hour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                     worked.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ystem.exit(0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/**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    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Precondition: newWageRate is nonnegativ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 void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tRate(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doubl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newWageRate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if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(newWageRate &gt;= 0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wageRate = newWageRate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ystem.out.println("Error: Negative wag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                     rate.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ystem.exit(0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4546440" y="1252440"/>
            <a:ext cx="448812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String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toString( 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return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(getName( ) + " " + getHireDate( ).toString( )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+ "\n$" + wageRate + " per hour for " + hour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+ " hours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 boolean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equals(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HourlyEmploy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e other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return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(getName( ).equals(other.getName( ))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amp;&amp; getHireDate( ).equals(other.getHireDate( )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amp;&amp; wageRate == other.wageRat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amp;&amp; hours == other.hour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//End HourlyEmployee Clas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Straight Connector 3"/>
          <p:cNvSpPr/>
          <p:nvPr/>
        </p:nvSpPr>
        <p:spPr>
          <a:xfrm>
            <a:off x="4444920" y="965160"/>
            <a:ext cx="0" cy="589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"/>
          <p:cNvSpPr/>
          <p:nvPr/>
        </p:nvSpPr>
        <p:spPr>
          <a:xfrm>
            <a:off x="130320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lariedEmployee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152280" y="1252440"/>
            <a:ext cx="45342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 class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alariedEmployee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extends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Employe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rivate double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alary;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//annual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SalariedEmployee( ) 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super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( 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alary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SalariedEmployee(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String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theName,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Dat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theDate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doubl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theSalary) 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super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(theName, theDat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if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(theSalary &gt;= 0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alary = theSalar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ystem.out.println("Error: Negative salary.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ystem.exit(0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SalariedEmployee(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SalariedEmploye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                   originalObject 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super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(originalObjec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alary = originalObject.salar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546440" y="1252440"/>
            <a:ext cx="44881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 double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getSalary( )    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return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salar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 doubl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getPay( )       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return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salary/12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 void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tSalary(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double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newSalary)    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if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(newSalary &gt;= 0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alary = newSalar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ystem.out.println("Error: Negative salary.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ystem.exit(0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public String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toString( )    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34ca1"/>
                </a:solidFill>
                <a:latin typeface="Tahoma"/>
              </a:rPr>
              <a:t>return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(getName( ) + " " + getHireDate( ).toString( )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+ "\n$" + salary + " per year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//Continue next slid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traight Connector 3"/>
          <p:cNvSpPr/>
          <p:nvPr/>
        </p:nvSpPr>
        <p:spPr>
          <a:xfrm>
            <a:off x="4521240" y="965160"/>
            <a:ext cx="0" cy="589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130320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lariedEmployee Class 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1562040" y="1468440"/>
            <a:ext cx="5587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boolea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quals(SalariedEmployee othe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 (getName( ).equals(other.getName( )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amp;&amp; getHireDate( ).equals(other.getHireDate( )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amp;&amp; salary == other.salar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//End Salaried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1"/>
          <p:cNvSpPr/>
          <p:nvPr/>
        </p:nvSpPr>
        <p:spPr>
          <a:xfrm>
            <a:off x="130320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eritanceDemo Clas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1003320" y="1468440"/>
            <a:ext cx="7074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public clas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heritanceDem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public static voi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ain(</a:t>
            </a: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St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] arg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urlyEmployee ali = </a:t>
            </a:r>
            <a:r>
              <a:rPr b="0" lang="en-US" sz="1600" spc="-1" strike="noStrike">
                <a:solidFill>
                  <a:srgbClr val="034ca1"/>
                </a:solidFill>
                <a:latin typeface="Tahoma"/>
              </a:rPr>
              <a:t>new HourlyEmploye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"Ali Abdallah"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Date("January", 1, 2004), 50.50, 16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stem.out.println("ali's full name is " + ali.getName( 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stem.out.println("Changing ali's name to Ahmad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i.setName("Ahmad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stem.out.println("ali's record is as follows: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stem.out.println(al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//End InheritanceDem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ing the Return Type of an Overridden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inarily, the type returned may not be changed when overriding a metho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if it is a class type, then the returned type </a:t>
            </a:r>
            <a:r>
              <a:rPr b="0" lang="en-US" sz="2000" spc="-1" strike="noStrike">
                <a:solidFill>
                  <a:srgbClr val="034ca1"/>
                </a:solidFill>
                <a:latin typeface="Tahoma"/>
              </a:rPr>
              <a:t>may be changed to that of any descendent cla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returned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known as a </a:t>
            </a: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covariant return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ariant return type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 new in Java 5.0; they are not allowed in earlier versions of 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variant Return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base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class Base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 . .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Employee getSomeone(int someKe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is allowed in Java 5.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class DerivedClass extends Base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{ . .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HourlyEmployee getSomeone(int someKe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Inheri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one of the main techniques of object-oriented programming (OO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is technique, a very general form of a class is first defined and compiled, and then more specialized versions of the class are defined by adding instance variables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pecialized classes are said to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her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 methods and instance variables of the general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071960" y="4046400"/>
            <a:ext cx="136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ase Cla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071960" y="519912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rived Cla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4721400" y="4478400"/>
            <a:ext cx="142560" cy="720360"/>
            <a:chOff x="4721400" y="4478400"/>
            <a:chExt cx="142560" cy="720360"/>
          </a:xfrm>
        </p:grpSpPr>
        <p:sp>
          <p:nvSpPr>
            <p:cNvPr id="87" name="AutoShape 7"/>
            <p:cNvSpPr/>
            <p:nvPr/>
          </p:nvSpPr>
          <p:spPr>
            <a:xfrm>
              <a:off x="4721400" y="4478400"/>
              <a:ext cx="142560" cy="196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4791960" y="4674600"/>
              <a:ext cx="0" cy="52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55480" y="252000"/>
            <a:ext cx="77770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ing the Access Permission of an Overridden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cess permission of an overridden method </a:t>
            </a:r>
            <a:r>
              <a:rPr b="0" lang="en-US" sz="2000" spc="-1" strike="noStrike">
                <a:solidFill>
                  <a:srgbClr val="034ca1"/>
                </a:solidFill>
                <a:latin typeface="Tahoma"/>
              </a:rPr>
              <a:t>can be chang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private in the base class to public (or some other </a:t>
            </a:r>
            <a:r>
              <a:rPr b="0" lang="en-US" sz="2000" spc="-1" strike="noStrike">
                <a:solidFill>
                  <a:srgbClr val="034ca1"/>
                </a:solidFill>
                <a:latin typeface="Tahoma"/>
              </a:rPr>
              <a:t>more permissive acc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n the derived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the access permission of an overridden method </a:t>
            </a:r>
            <a:r>
              <a:rPr b="0" lang="en-US" sz="2000" spc="-1" strike="noStrike">
                <a:solidFill>
                  <a:srgbClr val="034ca1"/>
                </a:solidFill>
                <a:latin typeface="Tahoma"/>
              </a:rPr>
              <a:t>can not be chang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public in the base class </a:t>
            </a:r>
            <a:r>
              <a:rPr b="0" lang="en-US" sz="2000" spc="-1" strike="noStrike">
                <a:solidFill>
                  <a:srgbClr val="034ca1"/>
                </a:solidFill>
                <a:latin typeface="Tahoma"/>
              </a:rPr>
              <a:t>to a more restricted acc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ermission in the derived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ing the Access Permission of an Overridden Method (Exampl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09400" y="1587600"/>
            <a:ext cx="7659720" cy="47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ven the following method header in a base cas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rivate void doSomething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following method header is valid in a derived clas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void doSomething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ever, the </a:t>
            </a:r>
            <a:r>
              <a:rPr b="0" lang="en-US" sz="1800" spc="-1" strike="noStrike">
                <a:solidFill>
                  <a:srgbClr val="034ca1"/>
                </a:solidFill>
                <a:latin typeface="Tahoma"/>
              </a:rPr>
              <a:t>opposite is not val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ven the following method header in a base cas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void doSomething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following method header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lid in a derived class:</a:t>
            </a:r>
            <a:r>
              <a:rPr b="0" lang="en-US" sz="18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ivate void doSomething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fall:  Overriding Versus Over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93400" y="162576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not confus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verrid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method in a derived class 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verload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method 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a method is </a:t>
            </a:r>
            <a:r>
              <a:rPr b="0" lang="en-US" sz="1800" spc="-1" strike="noStrike">
                <a:solidFill>
                  <a:srgbClr val="034ca1"/>
                </a:solidFill>
                <a:latin typeface="Tahoma"/>
              </a:rPr>
              <a:t>overridd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the new method definition given in the derived class has the exact </a:t>
            </a:r>
            <a:r>
              <a:rPr b="0" lang="en-US" sz="1800" spc="-1" strike="noStrike">
                <a:solidFill>
                  <a:srgbClr val="034ca1"/>
                </a:solidFill>
                <a:latin typeface="Tahoma"/>
              </a:rPr>
              <a:t>same number and types of paramete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s in the bas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a method in a derived class has a </a:t>
            </a:r>
            <a:r>
              <a:rPr b="0" lang="en-US" sz="1800" spc="-1" strike="noStrike">
                <a:solidFill>
                  <a:srgbClr val="034ca1"/>
                </a:solidFill>
                <a:latin typeface="Tahoma"/>
              </a:rPr>
              <a:t>different signatu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method in the base class, that is </a:t>
            </a:r>
            <a:r>
              <a:rPr b="0" lang="en-US" sz="1800" spc="-1" strike="noStrike">
                <a:solidFill>
                  <a:srgbClr val="034ca1"/>
                </a:solidFill>
                <a:latin typeface="Tahoma"/>
              </a:rPr>
              <a:t>overloa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 that when the derived class overloads the original method, it still inherits the original method from the base class as we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odif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modifi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laced before the definition of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n that method may not be redefined in a derive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the modifi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laced before the definition of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n that class may not be used as a base class to derive other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574800" y="266688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7238880" y="4419720"/>
          <a:ext cx="1905120" cy="14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419720"/>
                    <a:ext cx="19051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6"/>
          <p:cNvSpPr/>
          <p:nvPr/>
        </p:nvSpPr>
        <p:spPr>
          <a:xfrm>
            <a:off x="228600" y="4249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to do at hom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ad chapter 7 pages 452-46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loye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7" descr="07_01"/>
          <p:cNvPicPr/>
          <p:nvPr/>
        </p:nvPicPr>
        <p:blipFill>
          <a:blip r:embed="rId1"/>
          <a:stretch/>
        </p:blipFill>
        <p:spPr>
          <a:xfrm>
            <a:off x="1227240" y="1830240"/>
            <a:ext cx="770076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loye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363760" y="3741840"/>
            <a:ext cx="1401840" cy="49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urlyEmploye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637240" y="3741840"/>
            <a:ext cx="1401840" cy="49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alariedEmploye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054320" y="2230560"/>
            <a:ext cx="1403640" cy="49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3330720" y="2661120"/>
            <a:ext cx="880920" cy="1089000"/>
            <a:chOff x="3330720" y="2661120"/>
            <a:chExt cx="880920" cy="1089000"/>
          </a:xfrm>
        </p:grpSpPr>
        <p:sp>
          <p:nvSpPr>
            <p:cNvPr id="96" name="AutoShape 9"/>
            <p:cNvSpPr/>
            <p:nvPr/>
          </p:nvSpPr>
          <p:spPr>
            <a:xfrm rot="2270400">
              <a:off x="3910680" y="2689920"/>
              <a:ext cx="215280" cy="3531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 flipH="1">
              <a:off x="3330720" y="3005640"/>
              <a:ext cx="57852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5335200" y="2661120"/>
            <a:ext cx="880920" cy="1089000"/>
            <a:chOff x="5335200" y="2661120"/>
            <a:chExt cx="880920" cy="1089000"/>
          </a:xfrm>
        </p:grpSpPr>
        <p:sp>
          <p:nvSpPr>
            <p:cNvPr id="99" name="AutoShape 12"/>
            <p:cNvSpPr/>
            <p:nvPr/>
          </p:nvSpPr>
          <p:spPr>
            <a:xfrm flipH="1" rot="19329600">
              <a:off x="5420520" y="2689920"/>
              <a:ext cx="215280" cy="3531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Line 13"/>
            <p:cNvSpPr/>
            <p:nvPr/>
          </p:nvSpPr>
          <p:spPr>
            <a:xfrm>
              <a:off x="5637600" y="3005640"/>
              <a:ext cx="57852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14"/>
          <p:cNvGraphicFramePr/>
          <p:nvPr/>
        </p:nvGraphicFramePr>
        <p:xfrm>
          <a:off x="3505320" y="1065240"/>
          <a:ext cx="3282840" cy="201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065240"/>
                    <a:ext cx="3282840" cy="20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16"/>
          <p:cNvGraphicFramePr/>
          <p:nvPr/>
        </p:nvGraphicFramePr>
        <p:xfrm>
          <a:off x="1249200" y="4010040"/>
          <a:ext cx="333540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9200" y="4010040"/>
                    <a:ext cx="33354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8"/>
          <p:cNvGraphicFramePr/>
          <p:nvPr/>
        </p:nvGraphicFramePr>
        <p:xfrm>
          <a:off x="5692680" y="4037040"/>
          <a:ext cx="3287880" cy="18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2680" y="4037040"/>
                    <a:ext cx="328788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9"/>
          <p:cNvGrpSpPr/>
          <p:nvPr/>
        </p:nvGrpSpPr>
        <p:grpSpPr>
          <a:xfrm>
            <a:off x="2543040" y="2838960"/>
            <a:ext cx="881280" cy="1088640"/>
            <a:chOff x="2543040" y="2838960"/>
            <a:chExt cx="881280" cy="1088640"/>
          </a:xfrm>
        </p:grpSpPr>
        <p:sp>
          <p:nvSpPr>
            <p:cNvPr id="108" name="AutoShape 20"/>
            <p:cNvSpPr/>
            <p:nvPr/>
          </p:nvSpPr>
          <p:spPr>
            <a:xfrm rot="2270400">
              <a:off x="3123000" y="2867760"/>
              <a:ext cx="215640" cy="3531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 flipH="1">
              <a:off x="2543040" y="3183120"/>
              <a:ext cx="57852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" name="Group 22"/>
          <p:cNvGrpSpPr/>
          <p:nvPr/>
        </p:nvGrpSpPr>
        <p:grpSpPr>
          <a:xfrm>
            <a:off x="5767200" y="2800800"/>
            <a:ext cx="881280" cy="1088640"/>
            <a:chOff x="5767200" y="2800800"/>
            <a:chExt cx="881280" cy="1088640"/>
          </a:xfrm>
        </p:grpSpPr>
        <p:sp>
          <p:nvSpPr>
            <p:cNvPr id="111" name="AutoShape 23"/>
            <p:cNvSpPr/>
            <p:nvPr/>
          </p:nvSpPr>
          <p:spPr>
            <a:xfrm flipH="1" rot="19329600">
              <a:off x="5852520" y="2829600"/>
              <a:ext cx="215640" cy="3531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6069960" y="3144960"/>
              <a:ext cx="57852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1303200" y="214200"/>
            <a:ext cx="7307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loye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Inheri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eritance is the process by which a new class is created from another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new class is called a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derived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original class is called th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as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derived class automatically has all the instance variables and methods that the base class has, and it can have additional methods and/or instance variables as we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eritance is especially advantageous because it allows code to b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us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without having to copy it into the definitions of the derived clas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d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15560" y="1320840"/>
            <a:ext cx="7659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ce an hourly employee is an employee, it is defined as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rive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of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rived 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defined by adding instance variables and methods to an existing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xisting class that the derived class is built upon is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hras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xtends </a:t>
            </a:r>
            <a:r>
              <a:rPr b="1" i="1" lang="en-US" sz="1800" spc="-1" strike="noStrike">
                <a:solidFill>
                  <a:srgbClr val="034ca1"/>
                </a:solidFill>
                <a:latin typeface="Courier New"/>
              </a:rPr>
              <a:t>Base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ust be added to the derived class defini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ublic class HourlyEmployee extends Employe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erived class inherits all the public methods, all the public and private instance variables, and all the public and private static variables from the bas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erived class can add more instance variables, static variables, and/or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erited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derived class automatically has all the instance variables, all the static variables, and all the public methods of the base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bers from the base class are said to b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heri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for the inherited variables and methods do not appear in the derived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de is reused without having to explicitly copy it, unless the creator of the derived class redefines one or more of the base class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13840"/>
            <a:ext cx="7307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ent and Child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659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base class is often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ent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derived class is then called 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ild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relationships are often extended such that a class that is a parent of a parent . . . of another class is called a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cestor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n ancestor of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then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be called 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scend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f clas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cp:keywords/>
  <dc:language>en-US</dc:language>
  <cp:lastModifiedBy>CoreI5</cp:lastModifiedBy>
  <dcterms:modified xsi:type="dcterms:W3CDTF">2012-02-03T07:29:24Z</dcterms:modified>
  <cp:revision>84</cp:revision>
  <dc:subject/>
  <dc:title>PowerPoint Presentation</dc:title>
</cp:coreProperties>
</file>