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044800" y="214164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4 : Swing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3" descr="savitch_c17d06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9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ers and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components can be added to the content pane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does not specify how these components are to be arran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escribe how multiple components are to be arranged,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are a number of layout manager classes such a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a layout manager is not specified, a default layout manager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ager places the components that are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into five reg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regions are: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BorderLayout.NOR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rderLayout.SOU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rderLayout.EA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rderLayout.W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rderLayout.Ce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ager is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etLayout(new BorderLayout()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335240" y="4052880"/>
          <a:ext cx="55911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4052880"/>
                    <a:ext cx="55911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0" y="1058760"/>
          <a:ext cx="4734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8760"/>
                    <a:ext cx="4734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3878280" y="5099040"/>
          <a:ext cx="5265720" cy="17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8280" y="5099040"/>
                    <a:ext cx="526572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4765680" y="1582560"/>
          <a:ext cx="3755880" cy="27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5680" y="1582560"/>
                    <a:ext cx="37558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7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 Layout Manager (Examp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vious diagram shows the arrangement of the five border layout reg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 None of the lines in the diagram are normally vi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using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ager, the location of the component being added is given as a second argument to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(label1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can be added in any order since their location is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0600" y="121716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ager is the simplest layout 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Layout(new Flow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arranges components one after the other, going from left t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are arranged in the order in which they are ad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a location is not specifi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has only one argument when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lowLayoutMan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.(label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FlowLayout1"/>
          <p:cNvPicPr/>
          <p:nvPr/>
        </p:nvPicPr>
        <p:blipFill>
          <a:blip r:embed="rId1"/>
          <a:stretch/>
        </p:blipFill>
        <p:spPr>
          <a:xfrm>
            <a:off x="2678040" y="3963960"/>
            <a:ext cx="3060720" cy="255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nager arranges components in a two-dimensional grid with some number of rows and colum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etLayout(new GridLayout(rows, columns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entry is the same 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two numbers given as arguments specify the number of rows and colum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component is stretched so that it completely fills its grid pos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 None of the lines in the diagram are normally visi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247920" y="4529160"/>
            <a:ext cx="3468960" cy="690480"/>
            <a:chOff x="3247920" y="4529160"/>
            <a:chExt cx="3468960" cy="690480"/>
          </a:xfrm>
        </p:grpSpPr>
        <p:sp>
          <p:nvSpPr>
            <p:cNvPr id="139" name="Rectangle 4"/>
            <p:cNvSpPr/>
            <p:nvPr/>
          </p:nvSpPr>
          <p:spPr>
            <a:xfrm>
              <a:off x="3247920" y="4529160"/>
              <a:ext cx="34689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3247920" y="4876920"/>
              <a:ext cx="345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4411800" y="452916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549760" y="453708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,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only one arg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dd(label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ems are placed in the grid from left t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op row is filled first, then the second, and so for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id positions may not be ski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e use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n the GUI class itself in the following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often a convenient way of demonstrating a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4"/>
          <p:cNvGraphicFramePr/>
          <p:nvPr/>
        </p:nvGraphicFramePr>
        <p:xfrm>
          <a:off x="150840" y="912960"/>
          <a:ext cx="4751280" cy="61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912960"/>
                    <a:ext cx="4751280" cy="61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4746600" y="1627200"/>
          <a:ext cx="4118040" cy="329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6600" y="1627200"/>
                    <a:ext cx="411804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Layout Man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savitch_c17d10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20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ng I: (2/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etter Version of Our First Swing G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yout Managers: Border, Flow &amp;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7 pages 979-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rmal Way to Define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3" descr="savitch_c17d04_4of4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343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Version of Our First Swing GU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better version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kes it a derived class of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the normal way to define a windowing 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nstructor in the new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starts by calling the constructor for the parent class us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up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ensures that any initialization that is normally done for all objects of typ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ill be d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most all initialization for the window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placed in the constructor for th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is time, an anonymous object is used as the action listener for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298440" y="1130400"/>
          <a:ext cx="44928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130400"/>
                    <a:ext cx="44928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5"/>
          <p:cNvGraphicFramePr/>
          <p:nvPr/>
        </p:nvGraphicFramePr>
        <p:xfrm>
          <a:off x="934920" y="5000760"/>
          <a:ext cx="43322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4920" y="5000760"/>
                    <a:ext cx="43322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6"/>
          <p:cNvGraphicFramePr/>
          <p:nvPr/>
        </p:nvGraphicFramePr>
        <p:xfrm>
          <a:off x="4708440" y="1077840"/>
          <a:ext cx="4579920" cy="410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8440" y="1077840"/>
                    <a:ext cx="457992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7"/>
          <p:cNvGraphicFramePr/>
          <p:nvPr/>
        </p:nvGraphicFramePr>
        <p:xfrm>
          <a:off x="5533920" y="5213520"/>
          <a:ext cx="3610080" cy="16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33920" y="5213520"/>
                    <a:ext cx="361008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8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and New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33544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950240" y="25178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062760" y="27936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e normal way to define a 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7583400" y="1042920"/>
            <a:ext cx="184320" cy="839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 can be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ing a lab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ext for the label is given as an argument w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bel can then be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Label greeting = new JLabel("Hello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add(greet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Java,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.aw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are constants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that represent a number of basic col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be colored directl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ead, a program must color something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ntent pa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the content pane is the "inside" of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coloring the content pane has the effect of coloring the inside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the background color of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be set using the following c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getContentPane().setBackground(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lor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8" descr="savitch_c17d05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43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4"/>
          <p:cNvGraphicFramePr/>
          <p:nvPr/>
        </p:nvGraphicFramePr>
        <p:xfrm>
          <a:off x="157320" y="1203480"/>
          <a:ext cx="5698800" cy="45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203480"/>
                    <a:ext cx="569880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5"/>
          <p:cNvGraphicFramePr/>
          <p:nvPr/>
        </p:nvGraphicFramePr>
        <p:xfrm>
          <a:off x="3865680" y="4383000"/>
          <a:ext cx="5445000" cy="259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4383000"/>
                    <a:ext cx="5445000" cy="25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Line 6"/>
          <p:cNvSpPr/>
          <p:nvPr/>
        </p:nvSpPr>
        <p:spPr>
          <a:xfrm flipV="1">
            <a:off x="2387520" y="5733720"/>
            <a:ext cx="13240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600" y="615312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moColoredWindow.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4636800" y="2216160"/>
            <a:ext cx="1128600" cy="68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805280" y="1839960"/>
            <a:ext cx="24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loredWindow.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3-09T10:20:25Z</dcterms:modified>
  <cp:revision>87</cp:revision>
  <dc:subject/>
  <dc:title>PowerPoint Presentation</dc:title>
</cp:coreProperties>
</file>