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A98-3AB4-4863-AC2C-8A1F0D3901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2DE-7546-475E-AD22-62B3E56350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2A9-D8F4-443A-945E-6ECE80D919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C1E-6A81-42F4-8660-81E883A1B1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355B-8D08-47AA-8ED5-B8E1D82205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33E-0E87-436E-9FC4-84758E06CA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2E0-A023-4FA5-BD22-D58415C17D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AF29-9DB8-4C0B-BC2F-B9E28C1DF1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321-EDCD-413E-943A-D17F59F56B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24D-B891-4BF7-AC44-84E38BE444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57A-FEB3-4561-B731-DB5DD0B558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351-60D5-4DCF-9FF2-C92B159110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58F-236F-4B0E-A72F-9C58F62909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D28-C534-4B33-BA94-67C1D6E6DB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1E8-7462-4715-AB1C-7310E25EAB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981080" y="22096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s 18 : Threa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close-window button is clicked, nothing happens until the program is finished drawing all its circles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ause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invoked in the body of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oes not end until after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til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nds, the GUI cannot respond to anything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664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ing a Nonresponsive Program Using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how to fix the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create a new (independent) thread to draw the cir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created, the new thread will be an independent process that proceeds on its 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, the work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ended, and the main thread (contain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ready to respond to something el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close-window button is clicked while the new thread draws the circles, then the program will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Java, a thread is 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, a derived class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 to program a 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inherited from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rived class overrides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program the th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itiates the thread processing and invokes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4114800" y="1219320"/>
          <a:ext cx="541008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19320"/>
                    <a:ext cx="541008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228600" y="1219320"/>
          <a:ext cx="4267080" cy="545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42670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Line 6"/>
          <p:cNvSpPr/>
          <p:nvPr/>
        </p:nvSpPr>
        <p:spPr>
          <a:xfrm>
            <a:off x="44197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212120" y="22860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ed Version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l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743200" y="1523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ithout Th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8001000" y="1415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ith Th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w program uses a main thread and a second thread to fix the nonresponsive G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creates an inner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ck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is a derived class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defined in the same way as the previous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ead of invok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now creates an instance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ck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 new independent thread name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ckerTh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ckerThr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then invokes i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initiates processing and invoke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212120" y="22860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ed Version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ll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ed Vers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llDem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 4 of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3" descr="savitch_c20d02_4of6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way to create a thread is to have a class implemen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unn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na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 has one method head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void run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mplemen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unn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ust still be run from an instanc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usually done by passing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unna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as an argument to the thread constru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664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face:  Suggested  Implementation Out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class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ClassToRun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extends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SomeClass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implements Runn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void run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// Fill this as if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ClassToRu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// were derived from Thr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void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startThread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Thread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theThread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= new Thread(this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theThread.start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1971720" y="990720"/>
          <a:ext cx="50450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1720" y="990720"/>
                    <a:ext cx="50450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3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lDemo with Runnabl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section 19.1 (pages 1110-112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Java, programs can have multipl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rea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 separate computation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are often thought of as computations that run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they usually do not really execute in paral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ead, the computer switches resources between threads so that each one does a little bit of computing in tu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n operating systems allow more than one program to run at the same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operating system uses threads to do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ead.sle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.sle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tatic method in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auses the thread that includes the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pauses for the number of milliseconds given as an argu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it may be invoked in an ordinary program to insert a pause in the single thread of that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may throw a checked exception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rupted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must be caught or decla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t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terruptedExceptio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es are in the packag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program contains a simple GUI that draws circles one after the other when the "Start" button is cli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a 1/10 of a second pause between drawing each circ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close-window button is clicked, nothing happens until the program is finished drawing all its cir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e us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ead.sle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n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No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n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4"/>
          <p:cNvGraphicFramePr/>
          <p:nvPr/>
        </p:nvGraphicFramePr>
        <p:xfrm>
          <a:off x="1781280" y="990720"/>
          <a:ext cx="5229000" cy="59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990720"/>
                    <a:ext cx="52290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1371600" y="1219320"/>
          <a:ext cx="592596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9259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3" descr="savitch_c20d01_7of9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3" descr="savitch_c20d01_8of9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4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responsive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3" descr="savitch_c20d01_9of9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4-01T20:10:19Z</dcterms:modified>
  <cp:revision>32</cp:revision>
  <dc:subject/>
  <dc:title>PowerPoint Presentation</dc:title>
</cp:coreProperties>
</file>