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CE91-AD1C-4E50-BA09-611C8FB9D6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D10E-AC89-4EAC-A0E0-1BAB1EE3A9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AAFB-6231-4EE0-A60B-E4FD2097F2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3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133720" y="21844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7: Inner-clas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le for an Inne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any class in Java produce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 named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lassName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a class with one (or more) inner classes causes both (or more) classes to be compiled, and produces two (or more) .class fil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Name$InnerClass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Inner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360" y="3212640"/>
            <a:ext cx="76597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normal inner class has a connection between its objects and the outer class object that created the inner class 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s allows an inner class definition to reference an instance variable, or invoke a method of the outer 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are certain situations, however, when an inner class must be stati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an object of the inner class is created within a static method of the outer 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the inner class must have static memb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a static inner class has no connection to an object of the outer class, within an inner class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tance variables of the outer class cannot be referenc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nstatic methods of the outer class cannot be invo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2473200" y="1039680"/>
          <a:ext cx="375444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1039680"/>
                    <a:ext cx="375444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Inner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 inner class is mark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t can be used outside of the out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ner class must be created using an object of the outer class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erson p1 = new Person(</a:t>
            </a:r>
            <a:r>
              <a:rPr b="1" lang="en-US" sz="1600" spc="-1" strike="noStrike">
                <a:solidFill>
                  <a:srgbClr val="034ca1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erson.ArabicDate ad1 = p1.new ArabicDate(</a:t>
            </a:r>
            <a:r>
              <a:rPr b="1" lang="en-US" sz="1600" spc="-1" strike="noStrike">
                <a:solidFill>
                  <a:srgbClr val="034ca1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the prefix 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p1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ust come before 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ring to a Method of the Out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is invoked in an inner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inner class has no such method, then it is assumed to be an invocation of the method of that name in the out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oth the inner and outer class have a method with the same name, then it is assumed to be an invocation of the method in the inn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oth the inner and outer class have a method with the same name, and the intent is to invoke the method in the outer class, then the following invocation must be us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34ca1"/>
                </a:solidFill>
                <a:latin typeface="Courier New"/>
              </a:rPr>
              <a:t>OuterClassName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.this.</a:t>
            </a:r>
            <a:r>
              <a:rPr b="1" i="1" lang="en-US" sz="1600" spc="-1" strike="noStrike">
                <a:solidFill>
                  <a:srgbClr val="034ca1"/>
                </a:solidFill>
                <a:latin typeface="Courier New"/>
              </a:rPr>
              <a:t>methodName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ide an inner class refers to the object of the inn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about Inner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ing Inner Classe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legal to nest inner classes within inner cla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rules are the same as before, but the names get lon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n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which has public inner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which has public inner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n the following is valid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A aObject = new A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A.B bObject = aObject.new B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A.B.C cObject = bObject.new C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ner Classes and inheritanc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n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Outer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has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nner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erived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Outer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ll automatically hav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nner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s an inner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this case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erived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nnot override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nner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6560" y="1541520"/>
            <a:ext cx="781992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ocal class is defined within a block of Java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 classes are completely hidden in their containing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 class name is used only within a block it can be defined loca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ocal class can access instance variables of the outer class and only the 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final local 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enclosing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 rot="20107800">
            <a:off x="6216480" y="5635080"/>
            <a:ext cx="286524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Times New Roman"/>
              </a:rPr>
              <a:t>Not in the BOOK </a:t>
            </a:r>
            <a:r>
              <a:rPr b="1" lang="en-US" sz="2400" spc="-1" strike="noStrike">
                <a:solidFill>
                  <a:srgbClr val="ffcf01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Classes: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1509840" y="1017720"/>
          <a:ext cx="5622840" cy="53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017720"/>
                    <a:ext cx="56228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 rot="20107800">
            <a:off x="6216480" y="5635080"/>
            <a:ext cx="286524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Times New Roman"/>
              </a:rPr>
              <a:t>Not in the BOOK </a:t>
            </a:r>
            <a:r>
              <a:rPr b="1" lang="en-US" sz="2400" spc="-1" strike="noStrike">
                <a:solidFill>
                  <a:srgbClr val="ffcf01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nymous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5480" y="1625400"/>
            <a:ext cx="8120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a local class without a n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only one object has to be created from a class, and there is no need to name the class, then a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onymous 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finition can b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lass definition is embedded inside the expression with the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pera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onymous class has no constru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either derived from a class, or implements an interface. Lik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AnInterface i = new AnInterface ( ) { // methods defs. </a:t>
            </a:r>
            <a:r>
              <a:rPr b="0" lang="en-US" sz="1600" spc="-1" strike="noStrike">
                <a:solidFill>
                  <a:srgbClr val="034ca1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ASuperclass c = new ASuperclass(</a:t>
            </a:r>
            <a:r>
              <a:rPr b="0" lang="en-US" sz="1600" spc="-1" strike="noStrike">
                <a:solidFill>
                  <a:srgbClr val="034ca1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) { // methods defs. </a:t>
            </a:r>
            <a:r>
              <a:rPr b="0" lang="en-US" sz="1600" spc="-1" strike="noStrike">
                <a:solidFill>
                  <a:srgbClr val="034ca1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nymous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3" descr="D13_11a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nymous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3" descr="D13_11b"/>
          <p:cNvPicPr/>
          <p:nvPr/>
        </p:nvPicPr>
        <p:blipFill>
          <a:blip r:embed="rId1"/>
          <a:stretch/>
        </p:blipFill>
        <p:spPr>
          <a:xfrm>
            <a:off x="1147680" y="1087560"/>
            <a:ext cx="6677280" cy="570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4"/>
          <p:cNvGraphicFramePr/>
          <p:nvPr/>
        </p:nvGraphicFramePr>
        <p:xfrm>
          <a:off x="2133720" y="1360440"/>
          <a:ext cx="470520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360440"/>
                    <a:ext cx="470520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ory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2311560" y="1720800"/>
            <a:ext cx="3538440" cy="225900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5873760" y="1851120"/>
            <a:ext cx="1774800" cy="77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262640" y="1174680"/>
            <a:ext cx="17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ner class inside Pers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nymous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3" descr="D13_11c"/>
          <p:cNvPicPr/>
          <p:nvPr/>
        </p:nvPicPr>
        <p:blipFill>
          <a:blip r:embed="rId1"/>
          <a:stretch/>
        </p:blipFill>
        <p:spPr>
          <a:xfrm>
            <a:off x="914400" y="1600200"/>
            <a:ext cx="7539120" cy="342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13 pages 754-7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ner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41440"/>
            <a:ext cx="771984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 far, every class should be defined in a separate file having the same name as th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ner (or nested) classes are classes defined within other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ass that includes the inner class is called the outer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four categories of inner classes in Jav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ner classes (non-static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inner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 classes (defined inside a block of Java c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nymous classes (defined inside a block of Java c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ner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59336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ner class definition is a member of the outer class in the same way that the instance variables and methods of the outer class are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ner class is local to the outer class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ame of an inner class may be reused for something else outside the outer class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inner class is private, then the inner class cannot be accessed by name outside the definition of the out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nner Cla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54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two main advantages to inner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make the outer class more self-contained since they are defined inside a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of their methods have access to each other's private methods and instance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an inner class as a helping class is one of the most useful applications of inner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used as a helping class, an inner class should be marked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25160" y="288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:  Inner and Outer Classes Have Access to Each Other's Private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in the definition of a method of an inner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legal to reference a private instance variable of the outer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legal to invoke a private method of the outer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in the definition of a method of the oute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legal to reference a private instance variable of the inner class on an object of the inner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legal to invoke a (nonstatic) method of the inner class as long as an object of the inner class is used as a calling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the definition of the inner or outer classes, the modifier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equiva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77880" y="4473720"/>
            <a:ext cx="7529400" cy="1162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with an Inne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D13_9_1a"/>
          <p:cNvPicPr/>
          <p:nvPr/>
        </p:nvPicPr>
        <p:blipFill>
          <a:blip r:embed="rId1"/>
          <a:stretch/>
        </p:blipFill>
        <p:spPr>
          <a:xfrm>
            <a:off x="1239840" y="1055520"/>
            <a:ext cx="7211880" cy="544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with an Inne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38000"/>
            <a:ext cx="37526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68480" y="1638000"/>
            <a:ext cx="375300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68480" y="4108320"/>
            <a:ext cx="3753000" cy="22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4" descr="D13_9_1b"/>
          <p:cNvPicPr/>
          <p:nvPr/>
        </p:nvPicPr>
        <p:blipFill>
          <a:blip r:embed="rId1"/>
          <a:stretch/>
        </p:blipFill>
        <p:spPr>
          <a:xfrm>
            <a:off x="952560" y="1438200"/>
            <a:ext cx="7505640" cy="4619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with an Inner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D13_9_2"/>
          <p:cNvPicPr/>
          <p:nvPr/>
        </p:nvPicPr>
        <p:blipFill>
          <a:blip r:embed="rId1"/>
          <a:stretch/>
        </p:blipFill>
        <p:spPr>
          <a:xfrm>
            <a:off x="990720" y="1160640"/>
            <a:ext cx="7134120" cy="561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2-22T04:42:51Z</dcterms:modified>
  <cp:revision>66</cp:revision>
  <dc:subject/>
  <dc:title>PowerPoint Presentation</dc:title>
</cp:coreProperties>
</file>