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044800" y="214164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15 : Swing I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Swing and AWT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8" descr="savitch_c17d12_complete"/>
          <p:cNvPicPr/>
          <p:nvPr/>
        </p:nvPicPr>
        <p:blipFill>
          <a:blip r:embed="rId1"/>
          <a:srcRect l="0" t="1742" r="0" b="2178"/>
          <a:stretch/>
        </p:blipFill>
        <p:spPr>
          <a:xfrm>
            <a:off x="1530360" y="965160"/>
            <a:ext cx="4965840" cy="589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class that is a descendent class of the class Container is considered to be a contain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ava.aw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ckage, not in the Swing libr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object that belongs to a class derived from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(or its descendents) can have components added to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ass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descendent classes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 they and any of their descendents can serve as a contai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descendent clas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onen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added to any container class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it is derived fro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also be added to anoth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in a Typical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every GUI built using Swing container classes will be made up of three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tainer itself, probably a panel or window-like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onents added to the container such as labels, buttons, and pa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ayout manager to position the components inside the conta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a GUI's Look and Actions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8228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ask of designing a Swing GUI can be divided into two main subtas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ing and coding the appearance of the GUI on the sc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ing and coding the actions performed in response to user 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articular, it is useful to implement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as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until the GUI looks the way it shou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hilosophy is at the heart of the technique used by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odel-View-Controll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 Bars, Menus, and Menu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n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object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Me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oice on a menu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nu it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is an object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MenuI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menu can contain any number of menu i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menu item is identified by the string that labels it, and is displayed in the order to which it was added to the men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used to add a menu item to a menu in the same way that a component is added to a container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 Bars, Menus, and Menu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5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llowing creates a new menu, and then adds a menu item to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Menu diner = new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Menu("Daily Specials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MenuItem lunch = 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MenuItem("Lunch Specials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unch.addActionListen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ner.add(lun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rameter has been registered as an action listener for the menu i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sted Me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descendent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I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Men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a menu item in another me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fore, menus can be nes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s can be added to other menus in the same way as menu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Bars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nu b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container for menus, typically placed near the top of a windowing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used to add a menu to a menu bar in the same way that menu items are added to a me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MenuBar bar = new JMenuBa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ar.add(din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nu bar can be added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wo different 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JMenuB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setJMenuBar(bar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ich can be used to add a menu bar to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any other contai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savitch_c17d14_7of8"/>
          <p:cNvPicPr/>
          <p:nvPr/>
        </p:nvPicPr>
        <p:blipFill>
          <a:blip r:embed="rId1"/>
          <a:srcRect l="0" t="1884" r="0" b="2118"/>
          <a:stretch/>
        </p:blipFill>
        <p:spPr>
          <a:xfrm>
            <a:off x="838080" y="1320840"/>
            <a:ext cx="7772400" cy="5176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Exa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ng III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u Bars, Menus &amp;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Men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savitch_c17d14_8of8"/>
          <p:cNvPicPr/>
          <p:nvPr/>
        </p:nvPicPr>
        <p:blipFill>
          <a:blip r:embed="rId1"/>
          <a:stretch/>
        </p:blipFill>
        <p:spPr>
          <a:xfrm>
            <a:off x="838080" y="1231920"/>
            <a:ext cx="7772400" cy="5268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Exa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6"/>
          <p:cNvGraphicFramePr/>
          <p:nvPr/>
        </p:nvGraphicFramePr>
        <p:xfrm>
          <a:off x="1293840" y="1486080"/>
          <a:ext cx="655632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1486080"/>
                    <a:ext cx="65563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Example (Part 1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4"/>
          <p:cNvGraphicFramePr/>
          <p:nvPr/>
        </p:nvGraphicFramePr>
        <p:xfrm>
          <a:off x="1725480" y="1447920"/>
          <a:ext cx="569304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5480" y="1447920"/>
                    <a:ext cx="569304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Example (Part 2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2055960" y="1542960"/>
          <a:ext cx="50320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5960" y="1542960"/>
                    <a:ext cx="50320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7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Example (Part 3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4"/>
          <p:cNvGraphicFramePr/>
          <p:nvPr/>
        </p:nvGraphicFramePr>
        <p:xfrm>
          <a:off x="1573200" y="1255680"/>
          <a:ext cx="5997600" cy="43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0" y="1255680"/>
                    <a:ext cx="599760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Example (Part 4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 field and Text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901880" y="1125360"/>
          <a:ext cx="4995720" cy="565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1125360"/>
                    <a:ext cx="4995720" cy="56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4"/>
          <p:cNvGraphicFramePr/>
          <p:nvPr/>
        </p:nvGraphicFramePr>
        <p:xfrm>
          <a:off x="1133640" y="1554120"/>
          <a:ext cx="719136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554120"/>
                    <a:ext cx="719136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 field and Text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Field Exa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104760" y="1206360"/>
            <a:ext cx="6410520" cy="274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2"/>
          <a:stretch/>
        </p:blipFill>
        <p:spPr>
          <a:xfrm>
            <a:off x="3529080" y="3954600"/>
            <a:ext cx="5486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4"/>
          <p:cNvGraphicFramePr/>
          <p:nvPr/>
        </p:nvGraphicFramePr>
        <p:xfrm>
          <a:off x="1684440" y="1436760"/>
          <a:ext cx="5451480" cy="46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1436760"/>
                    <a:ext cx="545148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Field Exa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4"/>
          <p:cNvGraphicFramePr/>
          <p:nvPr/>
        </p:nvGraphicFramePr>
        <p:xfrm>
          <a:off x="1455840" y="1192320"/>
          <a:ext cx="5614920" cy="55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192320"/>
                    <a:ext cx="56149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Field Exa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54260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UI is often organized in a hierarchical fashion, with containers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ne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ide other contai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anel is an object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Pane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that serves as a simple conta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used to group smaller objects into a larger component (the pane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of the main functions of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 is to subdivide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other contai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4"/>
          <p:cNvGraphicFramePr/>
          <p:nvPr/>
        </p:nvGraphicFramePr>
        <p:xfrm>
          <a:off x="1693800" y="1415880"/>
          <a:ext cx="5756400" cy="40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415880"/>
                    <a:ext cx="575640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Field Examp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45482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heck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lso JCheckBoxMenuIte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Radio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lso JRadioButtonMenuIte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4959360" y="1325520"/>
          <a:ext cx="2871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9360" y="1325520"/>
                    <a:ext cx="2871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5029200" y="3992400"/>
            <a:ext cx="27432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526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ombo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3683160" y="3668760"/>
          <a:ext cx="2020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3668760"/>
                    <a:ext cx="2020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8"/>
          <p:cNvGraphicFramePr/>
          <p:nvPr/>
        </p:nvGraphicFramePr>
        <p:xfrm>
          <a:off x="5805360" y="3564000"/>
          <a:ext cx="3187800" cy="23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5360" y="3564000"/>
                    <a:ext cx="318780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13" descr=""/>
          <p:cNvPicPr/>
          <p:nvPr/>
        </p:nvPicPr>
        <p:blipFill>
          <a:blip r:embed="rId5"/>
          <a:stretch/>
        </p:blipFill>
        <p:spPr>
          <a:xfrm>
            <a:off x="4572000" y="1143000"/>
            <a:ext cx="4429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526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assword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Sl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3376440" y="1176480"/>
          <a:ext cx="375444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6440" y="1176480"/>
                    <a:ext cx="37544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8"/>
          <p:cNvGraphicFramePr/>
          <p:nvPr/>
        </p:nvGraphicFramePr>
        <p:xfrm>
          <a:off x="3763800" y="2878200"/>
          <a:ext cx="375444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3800" y="2878200"/>
                    <a:ext cx="37544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Picture 16" descr=""/>
          <p:cNvPicPr/>
          <p:nvPr/>
        </p:nvPicPr>
        <p:blipFill>
          <a:blip r:embed="rId5"/>
          <a:stretch/>
        </p:blipFill>
        <p:spPr>
          <a:xfrm>
            <a:off x="4443480" y="4354560"/>
            <a:ext cx="22701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 (Importa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wing Java tutorial examples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java.sun.com/docs/books/tutorial/uiswing/examples/components/index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966960" y="2111400"/>
          <a:ext cx="769140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6960" y="2111400"/>
                    <a:ext cx="76914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17 pages 997-10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090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ach panel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use different layout mana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al panels can be added to each panel, and each panel can have its own layout mana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nables almost any kind of overall layout to be used in a G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setLayout(new BorderLayout(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JPanel somePanel = new JPanel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somePanel.setLayout(new FlowLayout(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in the following example that panel and button objects are given color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Backgrou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without invok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ontentP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etContentPa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is only used when adding color to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1179360" y="1498680"/>
          <a:ext cx="678528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498680"/>
                    <a:ext cx="6785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anels (Part 1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1712880" y="1251000"/>
          <a:ext cx="571824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251000"/>
                    <a:ext cx="57182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anels (Part 2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1693800" y="1652760"/>
          <a:ext cx="54514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652760"/>
                    <a:ext cx="5451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anels (Part 3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1674720" y="1434960"/>
          <a:ext cx="5794560" cy="44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1434960"/>
                    <a:ext cx="579456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anels (Part 4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67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ane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5076720" y="1471680"/>
          <a:ext cx="3753000" cy="46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471680"/>
                    <a:ext cx="3753000" cy="46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927000" y="1515960"/>
          <a:ext cx="308772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7000" y="1515960"/>
                    <a:ext cx="30877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993600" y="3822840"/>
          <a:ext cx="3063960" cy="21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3600" y="3822840"/>
                    <a:ext cx="3063960" cy="21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3-09T11:07:41Z</dcterms:modified>
  <cp:revision>95</cp:revision>
  <dc:subject/>
  <dc:title>PowerPoint Presentation</dc:title>
</cp:coreProperties>
</file>