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5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s prepared by Rose William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nghamton Univers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ibonacciBlocks.svg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en.wikipedia.org/wiki/File:Fibonacci_spiral_34.svg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3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1981080" y="2209680"/>
            <a:ext cx="64008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ture 19 : Recur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o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riteVertical(12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Picture 6" descr="P582"/>
          <p:cNvPicPr/>
          <p:nvPr/>
        </p:nvPicPr>
        <p:blipFill>
          <a:blip r:embed="rId1"/>
          <a:stretch/>
        </p:blipFill>
        <p:spPr>
          <a:xfrm>
            <a:off x="1143000" y="2233440"/>
            <a:ext cx="6781680" cy="2724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ing a Recursive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writeVertical(1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this call is executed, the argument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substituted for the parameter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and the body of the method is execu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not less tha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art is execu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else part begins with the method call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writeVertical(n/10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stituting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qual to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roduc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writeVertical(12/10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ch evaluates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write Vertical(1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ing a Recursive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 this second computation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riteVertical</a:t>
            </a:r>
            <a:r>
              <a:rPr b="0" lang="en-US" sz="2000" spc="-1" strike="noStrike">
                <a:solidFill>
                  <a:srgbClr val="034ca1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suspended, leaving two computations waiting to resume , as the computer begins to execute another recursiv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is recursive call is finished, the execution of the second suspended computation will return and continue from the point abo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ion of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riteVertical(1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6" descr="P583a"/>
          <p:cNvPicPr/>
          <p:nvPr/>
        </p:nvPicPr>
        <p:blipFill>
          <a:blip r:embed="rId1"/>
          <a:stretch/>
        </p:blipFill>
        <p:spPr>
          <a:xfrm>
            <a:off x="1143000" y="1832040"/>
            <a:ext cx="7086600" cy="322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ing a Recursive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write Vertical(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this call is executed, the argument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substituted for the parameter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and the body of the method is execu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less tha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1" lang="en-US" sz="1800" spc="-1" strike="noStrike">
                <a:solidFill>
                  <a:srgbClr val="034ca1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ment Boolean expression is finally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output statement writes the argument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the screen, and the method ends without making another recursive c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 that this is the stopping cas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ion of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riteVertical(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P583b"/>
          <p:cNvPicPr/>
          <p:nvPr/>
        </p:nvPicPr>
        <p:blipFill>
          <a:blip r:embed="rId1"/>
          <a:stretch/>
        </p:blipFill>
        <p:spPr>
          <a:xfrm>
            <a:off x="990720" y="1668600"/>
            <a:ext cx="7315200" cy="3595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ing a Recursive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 call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riteVertical(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nds, the suspended computation that was waiting for it to end (the one that was initiated by the call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riteVertical(1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resumes execution where it left 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outputs the valu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12%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ends the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the first suspended computation can resume exec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ion o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riteVertical(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P584a"/>
          <p:cNvPicPr/>
          <p:nvPr/>
        </p:nvPicPr>
        <p:blipFill>
          <a:blip r:embed="rId1"/>
          <a:stretch/>
        </p:blipFill>
        <p:spPr>
          <a:xfrm>
            <a:off x="1066680" y="1776240"/>
            <a:ext cx="7239240" cy="3413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ing a Recursive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st suspended method was the one that was initiated by the call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riteVertical(12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sumes execution where it left 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outputs the valu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123%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ecution of the original method call e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a result, the digits 1,2, and 3 have been written to the screen one per line, in that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ion o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riteVertical(12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P584b"/>
          <p:cNvPicPr/>
          <p:nvPr/>
        </p:nvPicPr>
        <p:blipFill>
          <a:blip r:embed="rId1"/>
          <a:stretch/>
        </p:blipFill>
        <p:spPr>
          <a:xfrm>
            <a:off x="1143000" y="1981080"/>
            <a:ext cx="6610320" cy="2732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ursiv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urs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is a method that includes a call to its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based on the general problem solving technique of breaking down a task into sub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particular, recursion can be used whenever one subtask is a smaller version of the original task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9644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Form of a Recursive Method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eneral outline of a successful recursive method definition is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or more cases that include no recursive calls: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ase ca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topping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or more cases that include one or more recursive calls to the method being def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se recursive calls should solve "smaller" versions of the task performed by the method being defin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y must come closer to the base cas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tfall:  Infinite Recur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rite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ample, the series of recursive calls eventually reached a call of the method that did not involve recursion (a stopping ca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, instead, every recursive call had produced another recursive call, then a call to that method would, in theory, run for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call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finite recu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practice, such a method runs until the computer runs out of resources, and the program terminates abnorm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tfall:  Infinite Recur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lternative version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riteVert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 No stopping cas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blic static v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ewWriteVertical(int 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ewWriteVertical(n/1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ystem.out.println(n%1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tfall:  Infinite Recur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rogram with this method will compile and r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WriteVertical(1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uses that execution to stop to execute the recursive call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WriteVertical(12/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ch is equivalent to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ewWriteVertical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WriteVertical(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uses that execution to stop to execute the recursive call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WriteVertical(1/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ch is equivalent to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ewWriteVertical(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WriteVertical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uses that execution to stop to execute the recursive call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WriteVertical(0/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ch is equivalent to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ewWriteVertical(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 . 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so on, forever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ce the definition of</a:t>
            </a:r>
            <a:r>
              <a:rPr b="0" lang="en-US" sz="2000" spc="-1" strike="noStrike">
                <a:solidFill>
                  <a:srgbClr val="034ca1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WriteVertical</a:t>
            </a:r>
            <a:r>
              <a:rPr b="1" lang="en-US" sz="2000" spc="-1" strike="noStrike">
                <a:solidFill>
                  <a:srgbClr val="034ca1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 stopping case, the process will proce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orev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or until the computer runs out of resour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ursion Versus It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ursion is not absolutely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y task that can be done using recursion can also be done in a nonrecursive m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nonrecursive version of a method is called an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terative ver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iteratively written method will typically use loops of some sort in place of recu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recursively written method can be simpler, but will usually run slower and use more storage than an equivalent iterative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erative version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riteVer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3" descr="D11_2"/>
          <p:cNvPicPr/>
          <p:nvPr/>
        </p:nvPicPr>
        <p:blipFill>
          <a:blip r:embed="rId1"/>
          <a:stretch/>
        </p:blipFill>
        <p:spPr>
          <a:xfrm>
            <a:off x="990720" y="1371600"/>
            <a:ext cx="7505640" cy="50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ursive Methods that Return a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ursion is not limited to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recursive method can return a value of any 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outline for a successful recursive method that returns a value is as follow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or more cases in which the value returned is computed in terms of calls to the same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arguments for the recursive calls should be intuitively "smaller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or more cases in which the value returned is computed without the use of any recursive calls (the base or stopping cas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Powers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tho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Math class computes pow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takes two arguments of typ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returns a value of typ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cursive metho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ow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akes two arguments of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returns a value of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definition o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ower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based on the following formul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Tahoma"/>
              </a:rPr>
              <a:t>x</a:t>
            </a:r>
            <a:r>
              <a:rPr b="1" lang="en-US" sz="1400" spc="-1" strike="noStrike" baseline="30000">
                <a:solidFill>
                  <a:srgbClr val="034ca1"/>
                </a:solidFill>
                <a:latin typeface="Tahoma"/>
              </a:rPr>
              <a:t>n</a:t>
            </a:r>
            <a:r>
              <a:rPr b="1" lang="en-US" sz="1400" spc="-1" strike="noStrike">
                <a:solidFill>
                  <a:srgbClr val="034ca1"/>
                </a:solidFill>
                <a:latin typeface="Tahoma"/>
              </a:rPr>
              <a:t> is equal to x</a:t>
            </a:r>
            <a:r>
              <a:rPr b="1" lang="en-US" sz="1400" spc="-1" strike="noStrike" baseline="30000">
                <a:solidFill>
                  <a:srgbClr val="034ca1"/>
                </a:solidFill>
                <a:latin typeface="Tahoma"/>
              </a:rPr>
              <a:t>n-1</a:t>
            </a:r>
            <a:r>
              <a:rPr b="1" lang="en-US" sz="1400" spc="-1" strike="noStrike">
                <a:solidFill>
                  <a:srgbClr val="034ca1"/>
                </a:solidFill>
                <a:latin typeface="Tahoma"/>
              </a:rPr>
              <a:t> * 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Powers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erms of Java, the value returned b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ower(x, n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&gt;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be the same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ower(x, n-1) *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=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ower(x, n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retur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the stopping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cursive 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1454040" y="1371600"/>
          <a:ext cx="6274080" cy="47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1371600"/>
                    <a:ext cx="627408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Example : Vertical Nu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Object 4"/>
          <p:cNvGraphicFramePr/>
          <p:nvPr/>
        </p:nvGraphicFramePr>
        <p:xfrm>
          <a:off x="1905120" y="1219320"/>
          <a:ext cx="501948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19320"/>
                    <a:ext cx="501948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ing the Recursive Method Cal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ower(2,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3" descr="D11_4"/>
          <p:cNvPicPr/>
          <p:nvPr/>
        </p:nvPicPr>
        <p:blipFill>
          <a:blip r:embed="rId1"/>
          <a:stretch/>
        </p:blipFill>
        <p:spPr>
          <a:xfrm>
            <a:off x="988920" y="1219320"/>
            <a:ext cx="6554880" cy="52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ursive Problem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 the factorial of an integer, i.e. fact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ursive Problem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ulate the sum of an array of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ursive Problem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se the order of the characters in a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ursive Problem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nt number of digits in an inte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ursive Problem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 the following sequence of number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, 1, 2, 3, 5, 8, 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pt for the first two integers, each integer is the sum of the previous two integer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sequence is known as fibonacci numb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bonacci numbers have important applications in computer science and mathema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 program to produce the firs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umbers of the fibonacci sequenc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5" descr="180px-Fibonacci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5181480"/>
            <a:ext cx="1714680" cy="1076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180px-Fibonacci_spiral_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5181480"/>
            <a:ext cx="17143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ursive Problem 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lindrome is a phrase that reads the same forwards and backwards. For exampl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rad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able was I ere I saw elb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pan a n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answers the question, "Is this string a palindrome?"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ursive Problem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 out all the permutations of a 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permutations of "abc"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b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c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a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sume no repeated letters in stri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ch simpler to solve this with recursion than withou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mutations S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ven the empty set</a:t>
            </a:r>
            <a:r>
              <a:rPr b="0" lang="en-US" sz="1800" spc="-1" strike="noStrike">
                <a:solidFill>
                  <a:srgbClr val="ffcf01"/>
                </a:solidFill>
                <a:latin typeface="Trebuchet MS"/>
              </a:rPr>
              <a:t> { }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the only possible permutation is </a:t>
            </a:r>
            <a:r>
              <a:rPr b="0" lang="en-US" sz="1800" spc="-1" strike="noStrike">
                <a:solidFill>
                  <a:srgbClr val="ffcf01"/>
                </a:solidFill>
                <a:latin typeface="Trebuchet MS"/>
              </a:rPr>
              <a:t>{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ven the set</a:t>
            </a:r>
            <a:r>
              <a:rPr b="0" lang="en-US" sz="1800" spc="-1" strike="noStrike">
                <a:solidFill>
                  <a:srgbClr val="ffcf01"/>
                </a:solidFill>
                <a:latin typeface="Trebuchet MS"/>
              </a:rPr>
              <a:t> {A}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the only possible permutation is </a:t>
            </a:r>
            <a:r>
              <a:rPr b="0" lang="en-US" sz="1800" spc="-1" strike="noStrike">
                <a:solidFill>
                  <a:srgbClr val="ffcf01"/>
                </a:solidFill>
                <a:latin typeface="Trebuchet MS"/>
              </a:rPr>
              <a:t>{A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ven the set </a:t>
            </a:r>
            <a:r>
              <a:rPr b="0" lang="en-US" sz="1800" spc="-1" strike="noStrike">
                <a:solidFill>
                  <a:srgbClr val="ffcf01"/>
                </a:solidFill>
                <a:latin typeface="Trebuchet MS"/>
              </a:rPr>
              <a:t>{A, B}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the possible permutations are </a:t>
            </a:r>
            <a:r>
              <a:rPr b="0" lang="en-US" sz="1800" spc="-1" strike="noStrike">
                <a:solidFill>
                  <a:srgbClr val="ffcf01"/>
                </a:solidFill>
                <a:latin typeface="Trebuchet MS"/>
              </a:rPr>
              <a:t>{AB, BA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ven the set</a:t>
            </a:r>
            <a:r>
              <a:rPr b="0" lang="en-US" sz="1800" spc="-1" strike="noStrike">
                <a:solidFill>
                  <a:srgbClr val="ffcf01"/>
                </a:solidFill>
                <a:latin typeface="Trebuchet MS"/>
              </a:rPr>
              <a:t> {A, B, C}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the possible permutations are</a:t>
            </a:r>
            <a:br>
              <a:rPr sz="1800"/>
            </a:br>
            <a:r>
              <a:rPr b="0" lang="en-US" sz="1800" spc="-1" strike="noStrike">
                <a:solidFill>
                  <a:srgbClr val="ffcf01"/>
                </a:solidFill>
                <a:latin typeface="Trebuchet MS"/>
              </a:rPr>
              <a:t>{ABC, ACB, BAC, BCA, CAB, CBA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ll permutations of n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find all permutations of </a:t>
            </a: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d all permutations of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n-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f those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ert the remaining object into all possible positions of each permutation of</a:t>
            </a:r>
            <a:r>
              <a:rPr b="0" lang="en-US" sz="1600" spc="-1" strike="noStrike">
                <a:solidFill>
                  <a:srgbClr val="ffcf01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n-1</a:t>
            </a:r>
            <a:r>
              <a:rPr b="0" lang="en-US" sz="1600" spc="-1" strike="noStrike">
                <a:solidFill>
                  <a:srgbClr val="ffcf01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o find all permutations of 3 objects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{A, B, C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d all permutations of 2 of the objects, say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B</a:t>
            </a:r>
            <a:r>
              <a:rPr b="0" lang="en-US" sz="1600" spc="-1" strike="noStrike">
                <a:solidFill>
                  <a:srgbClr val="ffcf01"/>
                </a:solidFill>
                <a:latin typeface="Trebuchet MS"/>
              </a:rPr>
              <a:t>      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and             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C</a:t>
            </a:r>
            <a:r>
              <a:rPr b="0" lang="en-US" sz="1600" spc="-1" strike="noStrike">
                <a:solidFill>
                  <a:srgbClr val="ffcf01"/>
                </a:solidFill>
                <a:latin typeface="Trebuchet MS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ert the remaining object, </a:t>
            </a:r>
            <a:r>
              <a:rPr b="0" lang="en-US" sz="1600" spc="-1" strike="noStrike">
                <a:solidFill>
                  <a:srgbClr val="ffcf01"/>
                </a:solidFill>
                <a:latin typeface="Trebuchet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into all possible positions (marked by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^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in each of the permutations of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nd</a:t>
            </a:r>
            <a:r>
              <a:rPr b="0" lang="en-US" sz="1600" spc="-1" strike="noStrike">
                <a:solidFill>
                  <a:srgbClr val="ffcf01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</a:rPr>
              <a:t>^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B</a:t>
            </a:r>
            <a:r>
              <a:rPr b="0" lang="en-US" sz="1600" spc="-1" strike="noStrike">
                <a:solidFill>
                  <a:srgbClr val="ffcf01"/>
                </a:solidFill>
                <a:latin typeface="Trebuchet MS"/>
              </a:rPr>
              <a:t>  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</a:rPr>
              <a:t>^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C</a:t>
            </a:r>
            <a:r>
              <a:rPr b="0" lang="en-US" sz="1600" spc="-1" strike="noStrike">
                <a:solidFill>
                  <a:srgbClr val="ffcf01"/>
                </a:solidFill>
                <a:latin typeface="Trebuchet MS"/>
              </a:rPr>
              <a:t>  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</a:rPr>
              <a:t>^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and   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</a:rPr>
              <a:t>^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C</a:t>
            </a:r>
            <a:r>
              <a:rPr b="0" lang="en-US" sz="1600" spc="-1" strike="noStrike">
                <a:solidFill>
                  <a:srgbClr val="ffcf01"/>
                </a:solidFill>
                <a:latin typeface="Trebuchet MS"/>
              </a:rPr>
              <a:t>  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</a:rPr>
              <a:t>^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B</a:t>
            </a:r>
            <a:r>
              <a:rPr b="0" lang="en-US" sz="1600" spc="-1" strike="noStrike">
                <a:solidFill>
                  <a:srgbClr val="ffcf01"/>
                </a:solidFill>
                <a:latin typeface="Trebuchet MS"/>
              </a:rPr>
              <a:t>  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</a:rPr>
              <a:t>^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f01"/>
                </a:solidFill>
                <a:latin typeface="Trebuchet MS"/>
              </a:rPr>
              <a:t>   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A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BC</a:t>
            </a:r>
            <a:r>
              <a:rPr b="0" lang="en-US" sz="1600" spc="-1" strike="noStrike">
                <a:solidFill>
                  <a:srgbClr val="ffcf01"/>
                </a:solidFill>
                <a:latin typeface="Trebuchet MS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B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A</a:t>
            </a:r>
            <a:r>
              <a:rPr b="0" lang="en-US" sz="1600" spc="-1" strike="noStrike">
                <a:solidFill>
                  <a:srgbClr val="ffcf01"/>
                </a:solidFill>
                <a:latin typeface="Trebuchet MS"/>
              </a:rPr>
              <a:t>C 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BC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A</a:t>
            </a:r>
            <a:r>
              <a:rPr b="0" lang="en-US" sz="1600" spc="-1" strike="noStrike">
                <a:solidFill>
                  <a:srgbClr val="ffcf01"/>
                </a:solidFill>
                <a:latin typeface="Trebuchet MS"/>
              </a:rPr>
              <a:t>                 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A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CB</a:t>
            </a:r>
            <a:r>
              <a:rPr b="0" lang="en-US" sz="1600" spc="-1" strike="noStrike">
                <a:solidFill>
                  <a:srgbClr val="ffcf01"/>
                </a:solidFill>
                <a:latin typeface="Trebuchet MS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C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A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B</a:t>
            </a:r>
            <a:r>
              <a:rPr b="0" lang="en-US" sz="1600" spc="-1" strike="noStrike">
                <a:solidFill>
                  <a:srgbClr val="ffcf01"/>
                </a:solidFill>
                <a:latin typeface="Trebuchet MS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Trebuchet MS"/>
              </a:rPr>
              <a:t>CB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tical Nu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ic recursiv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rite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akes one (nonnegative)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gument, and writes tha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digits going down the screen one pe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 Recursive methods need not be sta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sk may be broken down into the following two sub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case:  If n&lt;10, then write the number n to the scre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ursive Case:  If n&gt;=10, then do two subtas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all the digits except the last dig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the last dig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wers of Hano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later cou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4" descr="illustration of the Towers of Hanoi problem"/>
          <p:cNvPicPr/>
          <p:nvPr/>
        </p:nvPicPr>
        <p:blipFill>
          <a:blip r:embed="rId1"/>
          <a:stretch/>
        </p:blipFill>
        <p:spPr>
          <a:xfrm>
            <a:off x="1371600" y="3124080"/>
            <a:ext cx="2952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4"/>
          <p:cNvSpPr/>
          <p:nvPr/>
        </p:nvSpPr>
        <p:spPr>
          <a:xfrm>
            <a:off x="228600" y="42498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to do at hom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ad chapter 11 (pages 672-69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tical Nu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argument 1234, the output of the first subtask would b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utput of the second part would b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tical Nu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composition of tasks into subtasks can be used to derive the method defini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task 1 is a smaller version of the original task, so it can be implemented with a recursiv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task 2 is just the simpl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 for Vertical Nu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 paramet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if (n&lt;1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ystem.out.println(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writeVertic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(the number n with the last digit removed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ystem.out.println(the last digit of 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/1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the number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the last digit removed, an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%1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the last digit o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ing a Recursive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ve methods are processed in the same way as any method call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riteVertical(12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is call is executed, the argument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12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substituted for the paramet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 the body of the method is execu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12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less th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rt is execu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ing a Recursive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else part begins with the method call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writeVertical(n/10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stituting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qual to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12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roduc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writeVertical(123/10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ch evaluates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writeVertical(12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 this point, the current method computation is placed on hold, and the recursive call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writeVertical</a:t>
            </a:r>
            <a:r>
              <a:rPr b="0" lang="en-US" sz="18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executed with the parameter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the recursive call is finished, the execution of the suspended computation will return and continue from the point ab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cp:keywords/>
  <dc:language>en-US</dc:language>
  <cp:lastModifiedBy>CoreI5</cp:lastModifiedBy>
  <dcterms:modified xsi:type="dcterms:W3CDTF">2012-04-01T20:09:20Z</dcterms:modified>
  <cp:revision>41</cp:revision>
  <dc:subject/>
  <dc:title>PowerPoint Presentation</dc:title>
</cp:coreProperties>
</file>