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9680" y="2728440"/>
            <a:ext cx="60962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23 : Gene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939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8641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69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Using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033560"/>
          <a:ext cx="6324480" cy="59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33560"/>
                    <a:ext cx="632448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8641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Our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27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 Generic Constructor Name Has No Typ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the class name in a parameterized class definition has a type parameter attached, the type parameter is not used in the heading of the constructor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Pai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tructor can use the type parameter as the type for a parameter of the constructor, but in this case, the angular brackets are not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Pair(T first, T secon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when a generic class is instantiated, the angular brackets are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r&lt;String&gt; pair =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 Pair&lt;String&gt;("Happy", "Da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 Primitive Type Cannot be Plugged in for a Typ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plugged in for a type parameter must always be a referenc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cannot be a primitive type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ow that Java has automatic boxing, this is not a big restr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 reference types can includ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 Type Parameter Cannot Be Used Everywhere a Type Name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efinition of a parameterized class definition, there are places where an ordinary class name would be allowed, but a type parameter is not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ticular, the type parameter cannot be used in simple expressions using new to create a new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instance, the type parameter cannot be used as a constructor name or like a construct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 object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 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[] a 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new 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9016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n Instantiation of a Generic Class Cannot be an Array Bas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such as the following are illeg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ir&lt;String&gt;[] 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new Pair&lt;String&gt;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this is a reasonable thing to want to do, it is not allowed given the way that Java implements generic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section 14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Gene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with version 5.0, Java allows class and method definitions that include parameters fo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definition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c programming with a type parameter enables code to be written that applies to any clas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Classes and Gene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ized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has a parameter, denot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se_Ty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at can be replaced by any reference type to obtain a class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the specified bas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ing with version 5.0, Java allows class definitions with parameters for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classes that have type parameters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ameterized 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neric defin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r, simply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ne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es and methods can hav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ype parameter can have any reference type (i.e., any class type) plugged in for the type parame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 specific type is plugged in, this produces a specific class type or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ditionally, a single uppercase letter is used for a type parameter, but any non-keyword identifier may b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definition with a type parameter is stored in a file and compiled just like any oth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a parameterized class is compiled, it can be used like any oth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the class type plugged in for the type parameter must be specified before it can be used in a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ing this is said to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stanti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generic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ample&lt;String&gt; object =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new Sample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696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Definition with a Type Para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Definition with a Typ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that is defined with a parameter for a type is called a generic class or a parameterize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parameter is included in angular brackets after the class name in the class definition he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non-keyword identifier can be used for the type parameter, but by convention, the parameter starts with an uppercase le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parameter can be used like other types used in the definition of a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939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772400" cy="42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68641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Ordered Pai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500076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Administrator</cp:lastModifiedBy>
  <dcterms:modified xsi:type="dcterms:W3CDTF">2010-02-19T11:24:48Z</dcterms:modified>
  <cp:revision>19</cp:revision>
  <dc:subject/>
  <dc:title>PowerPoint Presentation</dc:title>
</cp:coreProperties>
</file>