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9760" y="0"/>
            <a:ext cx="29386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2960" y="742680"/>
            <a:ext cx="495432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708080"/>
            <a:ext cx="54244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413640"/>
            <a:ext cx="293832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9760" y="9413640"/>
            <a:ext cx="29386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5CF-B17E-47E9-B087-6BB133073B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0120" y="9414000"/>
            <a:ext cx="2938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879C-1257-4A0E-B4FC-CA8646BF84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06640"/>
            <a:ext cx="54244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0120" y="9414000"/>
            <a:ext cx="2938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3A70-9AE0-4082-B548-5F35AB2D92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0120" y="9414000"/>
            <a:ext cx="2938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4C2E-C1F0-4CA1-A583-06B8A24AFC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0120" y="9414000"/>
            <a:ext cx="2938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8F0E-CCF7-4B15-8A8B-9073554B3C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0120" y="9414000"/>
            <a:ext cx="2938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4183-86AF-4E4D-ADF3-CA47020E4F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0120" y="9414000"/>
            <a:ext cx="2938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FB3C-13F1-4B49-BB2F-6CA4707C9D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099-6D0A-4821-898C-A906B1F9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263-E9C7-49A1-9E47-F9CF3553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96D-8339-4385-97D9-6085D5F5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7C0-FD52-4C4B-A939-B5E7D2CB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493-4FD3-4A30-94EB-03EA6FD9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DBD-059F-4F14-8AE3-E5DE6F85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264-E65C-41FE-B0DB-CE23125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C19-094C-4D5A-8F30-47816CD5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932-A15B-43FD-8037-7B72F591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02A-EB9F-4B58-A227-80C0AD33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079-6D8E-4DD1-A4C4-BB6E8D0E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4FE-1F53-4571-9014-FF08F6EC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-648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648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t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F677-4DA0-4BF9-85AD-6477D6358BC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Object 9"/>
          <p:cNvGraphicFramePr/>
          <p:nvPr/>
        </p:nvGraphicFramePr>
        <p:xfrm>
          <a:off x="0" y="838080"/>
          <a:ext cx="9144000" cy="7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838080"/>
                    <a:ext cx="9144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981080" y="22096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cture 21 : Sor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 Sort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57200" y="160020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void selectionSort(int a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int i, j, mi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for (i = 0; i &lt; a.length - 1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min = 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for (j = i + 1; j &lt; a.length; j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if (a[j] &lt; a[min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min =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swap(a[i], a[min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</a:t>
            </a:r>
            <a:r>
              <a:rPr b="1" lang="en-US" sz="1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 Sort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60020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void selectionSort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object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a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int i, j, mi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for (i = 0; i &lt; a.length - 1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min = 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for (j = i + 1; j &lt; a.length; j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[j].compareTo(a[min])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&l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min =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swap(a[i], a[min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</a:t>
            </a:r>
            <a:r>
              <a:rPr b="1" lang="en-US" sz="1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828800" y="28195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erge So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cursive divide-and-conquer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rge is a common data processing operation that is performed on two sequences of data with the following character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sequences contain items with a comm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bjects in both sequences are ordered in accordance with th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1600" y="1755720"/>
            <a:ext cx="68864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e first item from both 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le not finished with either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the current items from the two sequences, copy the smaller current item to the output sequence, and access the next item from the input sequence whose item was cop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any remaining items from the first sequence to the output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any remaining items from the second sequence to the output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ptually, merge sort works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vide the unsorted list into two sublists of about half the siz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rt each of the two sublists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til we have list sizes of length 1, in which case the list itself is return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two sorted sublists back into one sorted lis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gesort incorporates two main ideas to improve its runtim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mall list will take fewer steps to sort than a large lis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wer steps are required to construct a sorted list from two sorted lists than two unsorted lists. For example, you only have to traverse each list once if they're already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689120" y="1219320"/>
            <a:ext cx="6600960" cy="436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fg12_03"/>
          <p:cNvPicPr/>
          <p:nvPr/>
        </p:nvPicPr>
        <p:blipFill>
          <a:blip r:embed="rId1"/>
          <a:stretch/>
        </p:blipFill>
        <p:spPr>
          <a:xfrm>
            <a:off x="1979640" y="1365120"/>
            <a:ext cx="6137280" cy="40928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erge sort 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67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Sort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Object 9"/>
          <p:cNvGraphicFramePr/>
          <p:nvPr/>
        </p:nvGraphicFramePr>
        <p:xfrm>
          <a:off x="685800" y="1557360"/>
          <a:ext cx="845820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57360"/>
                    <a:ext cx="84582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4"/>
          <p:cNvGraphicFramePr/>
          <p:nvPr/>
        </p:nvGraphicFramePr>
        <p:xfrm>
          <a:off x="-838080" y="5867280"/>
          <a:ext cx="998208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838080" y="5867280"/>
                    <a:ext cx="99820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4"/>
          <p:cNvGraphicFramePr/>
          <p:nvPr/>
        </p:nvGraphicFramePr>
        <p:xfrm>
          <a:off x="1371600" y="957240"/>
          <a:ext cx="647712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57240"/>
                    <a:ext cx="64771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Sort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rge sort algorithm requires recur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ncept used in this algorithm is called divide-and-conqu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array is first split into two smaller array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ch of the smaller two arrays are recursively sor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two arrays are merged back into one arr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ase case for the merge sort is when the array to be sorted only has one element left that does not need to be rearrang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re is more than one element to sort, split the arrays into two sections and call the merge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1447920" y="152280"/>
            <a:ext cx="6424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learn how to use the standard sorting methods in the Java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learn how to implement the following sorting algorithm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ion sor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gesort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ckso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nderstand the difference in performance of these algorithms,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to use for small array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to use for medium arrays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to use for larg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590920" y="29718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Quick S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d in 1962 by C. A. R. Ho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-and-conqu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astest algorithm 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running time O(N log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st-case running time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but very unlikely to hap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sort rearranges an array into two parts so that all the elements in the left subarray are less than or equal to a specified value, called the piv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sort ensures that the elements in the right subarray are larger than the piv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No extra memory is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Fast running time (in aver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Unstable in running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Fin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piv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element is a big issu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step in the Quicksort algorithm is partitioning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choose some (any) number p in the array to use as a piv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partition the array into three par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838080" y="4572000"/>
            <a:ext cx="7315200" cy="304920"/>
            <a:chOff x="838080" y="4572000"/>
            <a:chExt cx="7315200" cy="304920"/>
          </a:xfrm>
        </p:grpSpPr>
        <p:sp>
          <p:nvSpPr>
            <p:cNvPr id="183" name="Rectangle 5"/>
            <p:cNvSpPr/>
            <p:nvPr/>
          </p:nvSpPr>
          <p:spPr>
            <a:xfrm>
              <a:off x="83808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114300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447920" y="4572000"/>
              <a:ext cx="30456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75248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205740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0"/>
            <p:cNvSpPr/>
            <p:nvPr/>
          </p:nvSpPr>
          <p:spPr>
            <a:xfrm>
              <a:off x="2362320" y="4572000"/>
              <a:ext cx="30456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266688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297180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76720" y="4572000"/>
              <a:ext cx="30456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f01"/>
                  </a:solidFill>
                  <a:latin typeface="Verdan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358128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388620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6"/>
            <p:cNvSpPr/>
            <p:nvPr/>
          </p:nvSpPr>
          <p:spPr>
            <a:xfrm>
              <a:off x="4191120" y="4572000"/>
              <a:ext cx="30456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7"/>
            <p:cNvSpPr/>
            <p:nvPr/>
          </p:nvSpPr>
          <p:spPr>
            <a:xfrm>
              <a:off x="449568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8"/>
            <p:cNvSpPr/>
            <p:nvPr/>
          </p:nvSpPr>
          <p:spPr>
            <a:xfrm>
              <a:off x="480060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9"/>
            <p:cNvSpPr/>
            <p:nvPr/>
          </p:nvSpPr>
          <p:spPr>
            <a:xfrm>
              <a:off x="5105520" y="4572000"/>
              <a:ext cx="30456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0"/>
            <p:cNvSpPr/>
            <p:nvPr/>
          </p:nvSpPr>
          <p:spPr>
            <a:xfrm>
              <a:off x="541008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1"/>
            <p:cNvSpPr/>
            <p:nvPr/>
          </p:nvSpPr>
          <p:spPr>
            <a:xfrm>
              <a:off x="571500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>
              <a:off x="6019920" y="4572000"/>
              <a:ext cx="30456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>
              <a:off x="632448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>
              <a:off x="662940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>
              <a:off x="6934320" y="4572000"/>
              <a:ext cx="30456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6"/>
            <p:cNvSpPr/>
            <p:nvPr/>
          </p:nvSpPr>
          <p:spPr>
            <a:xfrm>
              <a:off x="723888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7"/>
            <p:cNvSpPr/>
            <p:nvPr/>
          </p:nvSpPr>
          <p:spPr>
            <a:xfrm>
              <a:off x="7543800" y="4572000"/>
              <a:ext cx="30492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8"/>
            <p:cNvSpPr/>
            <p:nvPr/>
          </p:nvSpPr>
          <p:spPr>
            <a:xfrm>
              <a:off x="7848720" y="4572000"/>
              <a:ext cx="304560" cy="304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29"/>
          <p:cNvGrpSpPr/>
          <p:nvPr/>
        </p:nvGrpSpPr>
        <p:grpSpPr>
          <a:xfrm>
            <a:off x="838080" y="4952520"/>
            <a:ext cx="2362320" cy="1146600"/>
            <a:chOff x="838080" y="4952520"/>
            <a:chExt cx="2362320" cy="1146600"/>
          </a:xfrm>
        </p:grpSpPr>
        <p:sp>
          <p:nvSpPr>
            <p:cNvPr id="208" name="AutoShape 30"/>
            <p:cNvSpPr/>
            <p:nvPr/>
          </p:nvSpPr>
          <p:spPr>
            <a:xfrm rot="16200000">
              <a:off x="1866600" y="3923640"/>
              <a:ext cx="304920" cy="23623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31"/>
            <p:cNvSpPr/>
            <p:nvPr/>
          </p:nvSpPr>
          <p:spPr>
            <a:xfrm>
              <a:off x="1371600" y="527364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umbers less th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cf01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32"/>
          <p:cNvGrpSpPr/>
          <p:nvPr/>
        </p:nvGrpSpPr>
        <p:grpSpPr>
          <a:xfrm>
            <a:off x="3581280" y="4952520"/>
            <a:ext cx="4572000" cy="1130760"/>
            <a:chOff x="3581280" y="4952520"/>
            <a:chExt cx="4572000" cy="1130760"/>
          </a:xfrm>
        </p:grpSpPr>
        <p:sp>
          <p:nvSpPr>
            <p:cNvPr id="211" name="AutoShape 33"/>
            <p:cNvSpPr/>
            <p:nvPr/>
          </p:nvSpPr>
          <p:spPr>
            <a:xfrm rot="16200000">
              <a:off x="5714640" y="2818800"/>
              <a:ext cx="304920" cy="45720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4572000" y="5257800"/>
              <a:ext cx="281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umbers greater than or equal t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cf01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35"/>
          <p:cNvGrpSpPr/>
          <p:nvPr/>
        </p:nvGrpSpPr>
        <p:grpSpPr>
          <a:xfrm>
            <a:off x="3124080" y="4952520"/>
            <a:ext cx="533520" cy="688680"/>
            <a:chOff x="3124080" y="4952520"/>
            <a:chExt cx="533520" cy="688680"/>
          </a:xfrm>
        </p:grpSpPr>
        <p:sp>
          <p:nvSpPr>
            <p:cNvPr id="214" name="AutoShape 36"/>
            <p:cNvSpPr/>
            <p:nvPr/>
          </p:nvSpPr>
          <p:spPr>
            <a:xfrm rot="16200000">
              <a:off x="3238560" y="4990680"/>
              <a:ext cx="304920" cy="2286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37"/>
            <p:cNvSpPr/>
            <p:nvPr/>
          </p:nvSpPr>
          <p:spPr>
            <a:xfrm>
              <a:off x="31240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cf01"/>
                  </a:solidFill>
                  <a:latin typeface="Verdana"/>
                </a:rPr>
                <a:t>p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an array value (say, the first) to use as the piv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ing from the left end, find the first element that is greater than or equal to the piv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backward from the right end, find the first element that is less than the piv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hange (swap) these two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, searching from where we left off, until d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Partiti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pivo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e4a8"/>
                </a:solidFill>
                <a:uFillTx/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3 6 9 2 4 3 1 2 1 8 9 3 5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e4a8"/>
                </a:solidFill>
                <a:uFillTx/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9 2 4 3 1 2 1 8 9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5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ap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e4a8"/>
                </a:solidFill>
                <a:uFillTx/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9 2 4 3 1 2 1 8 9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5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e4a8"/>
                </a:solidFill>
                <a:uFillTx/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 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2 4 3 1 2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8 9 6 5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ap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e4a8"/>
                </a:solidFill>
                <a:uFillTx/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2 4 3 1 2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8 9 6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5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e4a8"/>
                </a:solidFill>
                <a:uFillTx/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 1 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3 1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9 8 9 6 5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ap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e4a8"/>
                </a:solidFill>
                <a:uFillTx/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 1 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3 1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9 8 9 6 5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e4a8"/>
                </a:solidFill>
                <a:uFillTx/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 1 2 2 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8 9 6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5 6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eft &gt; righ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ap with pivo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3 3 1 2 2 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e4a8"/>
                </a:solidFill>
                <a:uFillTx/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8 9 6 5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ng the Piv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element - a bad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don't select the pivot near the beginning or the end of the 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 element is a good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n-of-three - the median of the first, middle, and last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weiss08-10"/>
          <p:cNvPicPr/>
          <p:nvPr/>
        </p:nvPicPr>
        <p:blipFill>
          <a:blip r:embed="rId1"/>
          <a:srcRect l="0" t="0" r="19200" b="0"/>
          <a:stretch/>
        </p:blipFill>
        <p:spPr>
          <a:xfrm>
            <a:off x="4156200" y="990720"/>
            <a:ext cx="4987800" cy="6172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1295280" y="2286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How Quick Sort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 Sort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5" name="Object 7"/>
          <p:cNvGraphicFramePr/>
          <p:nvPr/>
        </p:nvGraphicFramePr>
        <p:xfrm>
          <a:off x="1676520" y="1143000"/>
          <a:ext cx="5870520" cy="57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143000"/>
                    <a:ext cx="587052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son of S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Sort and Merge Sort will always be faster than the Selection sor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Sort sor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hidden constant in the average case is smaller than Merge Sort'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orst case behavior is better than Quick S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or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 and applications of S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16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finitio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: Sor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task of putting data into a particular order either ascending or descend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st intensively studied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sorting - data fit into 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sorting - data are on the d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ing speeds up searc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ction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 in a direc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end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one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Sor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st, worst, and average cases ar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ge Sor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st, worst, and average cases a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So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st and average cases a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st case 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133720" y="29718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ort algorith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bble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each pair of adjacent elements from the beginning of an array and, if they are in reversed order, swap the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t least one swap has been done, repeat step 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bble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6" descr="bubble-sort-1"/>
          <p:cNvPicPr/>
          <p:nvPr/>
        </p:nvPicPr>
        <p:blipFill>
          <a:blip r:embed="rId1"/>
          <a:stretch/>
        </p:blipFill>
        <p:spPr>
          <a:xfrm>
            <a:off x="2666880" y="1447920"/>
            <a:ext cx="32004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bble Sort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1744560" y="1344600"/>
          <a:ext cx="569304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4560" y="1344600"/>
                    <a:ext cx="569304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7"/>
          <p:cNvSpPr/>
          <p:nvPr/>
        </p:nvSpPr>
        <p:spPr>
          <a:xfrm>
            <a:off x="914400" y="5486400"/>
            <a:ext cx="4267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mplexity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1760" y="1792440"/>
            <a:ext cx="765972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 is imaginary divided into two parts - sorted one and unsorted o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beginning, sorted part contains first element of the array and unsorted one contains the res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every step, algorithm takes first element in the unsorted part and inserts it to the right place of the sorted o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nsorted part becomes empty, algorithm stop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4" descr="insertion-sort-1"/>
          <p:cNvPicPr/>
          <p:nvPr/>
        </p:nvPicPr>
        <p:blipFill>
          <a:blip r:embed="rId1"/>
          <a:stretch/>
        </p:blipFill>
        <p:spPr>
          <a:xfrm>
            <a:off x="2362320" y="1143000"/>
            <a:ext cx="46083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935000" y="1676520"/>
          <a:ext cx="53118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5000" y="1676520"/>
                    <a:ext cx="53118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7"/>
          <p:cNvSpPr/>
          <p:nvPr/>
        </p:nvSpPr>
        <p:spPr>
          <a:xfrm>
            <a:off x="1066680" y="5181480"/>
            <a:ext cx="42674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mplexity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297000"/>
            <a:ext cx="671652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Java Sorting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PI provides a clas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several overloaded static sort methods for different array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provides similar sorting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ing methods for arrays of primitive types are based on quicksort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of sorting for arrays of objects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d on merges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828800" y="28195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lection So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orting: Arrange things into either ascending or de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: rearrange books on shelf by he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est book on the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at books, select shortest 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ap with first 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at remaining books, select shor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ap with second 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650960" y="538488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and after exchanging shortest book and the first boo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967120" y="2000160"/>
            <a:ext cx="3209760" cy="255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gins at the front of the list and looks for the first element smaller (or larger) than the current element.  Then the elements are switc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identification of the element to switch is based upon the type of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cending or descend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5435640" y="990720"/>
            <a:ext cx="287028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515304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168560" y="240336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lection sort of an array of integers into ascend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5557680" y="1146240"/>
            <a:ext cx="2600640" cy="527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05:31:49Z</dcterms:created>
  <dc:creator>Quazi Abidur Rahman</dc:creator>
  <dc:description/>
  <dc:language>en-US</dc:language>
  <cp:lastModifiedBy>CoreI5</cp:lastModifiedBy>
  <dcterms:modified xsi:type="dcterms:W3CDTF">2012-04-29T03:04:57Z</dcterms:modified>
  <cp:revision>105</cp:revision>
  <dc:subject/>
  <dc:title>Slide 1</dc:title>
</cp:coreProperties>
</file>