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2DC-CC3B-4F93-934A-1582AFD9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517-A674-4351-90EF-28F6057D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39B-5D11-4178-89A8-F7723FA9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712-E33D-4C47-8521-3C53B97D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960-EFE6-4DDB-8B23-D51E87D2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1BE-53BB-4D1F-B7BB-5FC2D7A4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B51-D1DA-4EB1-8C5C-8C7079CD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519-38A6-4628-BB7E-36D872CF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AA6-AAA2-4DE0-A793-30821DCF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A86-3BF1-46DD-95B2-150BC9F3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4F8-4EEE-4547-9625-93DEB6FA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440-98DB-4101-A603-49604176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6480"/>
          <a:ext cx="9144000" cy="686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648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DA19-9943-44C6-87BC-EF29D498D29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0" y="838080"/>
          <a:ext cx="9144000" cy="7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838080"/>
                    <a:ext cx="91440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680" y="2728440"/>
            <a:ext cx="60962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841400"/>
            <a:ext cx="723888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cture 12 : Gentle Introduction to Computer Graphics 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057400" y="5410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ed 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David Brogan’s “Introduction to Computer Graphics” Course Slides, University of Virgini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Jack van Wijk’s “Computer Graphics” Course Slides, University of Eindhoven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9360" y="213840"/>
            <a:ext cx="73058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-D Trans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3276720"/>
            <a:ext cx="152280" cy="152280"/>
          </a:xfrm>
          <a:prstGeom prst="ellipse">
            <a:avLst/>
          </a:prstGeom>
          <a:solidFill>
            <a:srgbClr val="ffcf0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60199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4572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47040" y="394884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, 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35280" y="281880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’, y’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4343040"/>
            <a:ext cx="3352680" cy="1191240"/>
          </a:xfrm>
          <a:prstGeom prst="rect">
            <a:avLst/>
          </a:prstGeom>
          <a:solidFill>
            <a:srgbClr val="9999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’ = x + t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’ = y + 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464832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76520" y="45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429000"/>
            <a:ext cx="0" cy="1219320"/>
          </a:xfrm>
          <a:prstGeom prst="line">
            <a:avLst/>
          </a:prstGeom>
          <a:ln w="19080">
            <a:solidFill>
              <a:srgbClr val="00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06760" y="3733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124080" y="27432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2D Modeling Transform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rix Repres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ar Transform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0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to Modeling Transform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ansformations for objec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definitions of objects in own coordinate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e of object definition multiple times in a sce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9360" y="213840"/>
            <a:ext cx="73058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D Modeling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0" r="0" b="12185"/>
          <a:stretch/>
        </p:blipFill>
        <p:spPr>
          <a:xfrm>
            <a:off x="3048120" y="2971800"/>
            <a:ext cx="5790960" cy="289548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764640" y="4266000"/>
            <a:ext cx="1450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7840" y="1827720"/>
            <a:ext cx="1450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560" y="1982880"/>
            <a:ext cx="2062080" cy="1301760"/>
          </a:xfrm>
          <a:prstGeom prst="rect">
            <a:avLst/>
          </a:prstGeom>
          <a:solidFill>
            <a:srgbClr val="f8f8f8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rcRect l="24593" t="71634" r="63239" b="16501"/>
          <a:stretch/>
        </p:blipFill>
        <p:spPr>
          <a:xfrm>
            <a:off x="1035000" y="2254320"/>
            <a:ext cx="1357200" cy="750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927000" y="2036880"/>
            <a:ext cx="0" cy="97632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3013200"/>
            <a:ext cx="1683000" cy="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38480" y="289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02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3276720"/>
            <a:ext cx="1214640" cy="1474560"/>
          </a:xfrm>
          <a:custGeom>
            <a:avLst/>
            <a:gdLst/>
            <a:ahLst/>
            <a:rect l="l" t="t" r="r" b="b"/>
            <a:pathLst>
              <a:path w="765" h="929">
                <a:moveTo>
                  <a:pt x="0" y="0"/>
                </a:moveTo>
                <a:lnTo>
                  <a:pt x="4" y="703"/>
                </a:lnTo>
                <a:lnTo>
                  <a:pt x="765" y="9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2640" y="594252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8680" y="121932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2577960"/>
            <a:ext cx="1968480" cy="2727360"/>
          </a:xfrm>
          <a:custGeom>
            <a:avLst/>
            <a:gdLst/>
            <a:ahLst/>
            <a:rect l="l" t="t" r="r" b="b"/>
            <a:pathLst>
              <a:path w="1240" h="1718">
                <a:moveTo>
                  <a:pt x="0" y="8"/>
                </a:moveTo>
                <a:lnTo>
                  <a:pt x="837" y="0"/>
                </a:lnTo>
                <a:lnTo>
                  <a:pt x="1240" y="17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9360" y="213840"/>
            <a:ext cx="73058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54380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ahoma"/>
              </a:rPr>
              <a:t>Sc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coordinate means multiplying each of its components by a sc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ahoma"/>
              </a:rPr>
              <a:t>Uniform sc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ans this scalar is the same for all compon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09480" y="4038480"/>
            <a:ext cx="3048120" cy="2743200"/>
            <a:chOff x="609480" y="4038480"/>
            <a:chExt cx="3048120" cy="2743200"/>
          </a:xfrm>
        </p:grpSpPr>
        <p:sp>
          <p:nvSpPr>
            <p:cNvPr id="148" name=""/>
            <p:cNvSpPr/>
            <p:nvPr/>
          </p:nvSpPr>
          <p:spPr>
            <a:xfrm>
              <a:off x="990720" y="40384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480" y="647676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0968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460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1952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2408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900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61718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58672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14400" y="556236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14400" y="52574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14400" y="49528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14400" y="464796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14400" y="43430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14400" y="4038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600200" y="5105520"/>
            <a:ext cx="914400" cy="1066680"/>
            <a:chOff x="1600200" y="5105520"/>
            <a:chExt cx="914400" cy="1066680"/>
          </a:xfrm>
        </p:grpSpPr>
        <p:sp>
          <p:nvSpPr>
            <p:cNvPr id="167" name=""/>
            <p:cNvSpPr/>
            <p:nvPr/>
          </p:nvSpPr>
          <p:spPr>
            <a:xfrm>
              <a:off x="1752480" y="5105520"/>
              <a:ext cx="152640" cy="22860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144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0" y="14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0200" y="5486400"/>
              <a:ext cx="91440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5181480"/>
              <a:ext cx="914400" cy="30492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192"/>
                  </a:moveTo>
                  <a:lnTo>
                    <a:pt x="240" y="0"/>
                  </a:lnTo>
                  <a:lnTo>
                    <a:pt x="336" y="0"/>
                  </a:lnTo>
                  <a:lnTo>
                    <a:pt x="576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181480" y="4038480"/>
            <a:ext cx="3048120" cy="2743200"/>
            <a:chOff x="5181480" y="4038480"/>
            <a:chExt cx="3048120" cy="2743200"/>
          </a:xfrm>
        </p:grpSpPr>
        <p:sp>
          <p:nvSpPr>
            <p:cNvPr id="171" name=""/>
            <p:cNvSpPr/>
            <p:nvPr/>
          </p:nvSpPr>
          <p:spPr>
            <a:xfrm>
              <a:off x="5562720" y="40384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81480" y="647676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728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20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168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660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9152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9608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01000" y="64004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6400" y="61718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86400" y="58672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556236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86400" y="52574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6400" y="49528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464796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86400" y="43430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86400" y="4038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781680" y="4191120"/>
            <a:ext cx="1828440" cy="2132640"/>
            <a:chOff x="6781680" y="4191120"/>
            <a:chExt cx="1828440" cy="2132640"/>
          </a:xfrm>
        </p:grpSpPr>
        <p:sp>
          <p:nvSpPr>
            <p:cNvPr id="190" name=""/>
            <p:cNvSpPr/>
            <p:nvPr/>
          </p:nvSpPr>
          <p:spPr>
            <a:xfrm>
              <a:off x="7085880" y="4191120"/>
              <a:ext cx="304920" cy="45684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144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0" y="14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119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81680" y="4952520"/>
              <a:ext cx="1828440" cy="137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1680" y="4342680"/>
              <a:ext cx="1828440" cy="60948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192"/>
                  </a:moveTo>
                  <a:lnTo>
                    <a:pt x="240" y="0"/>
                  </a:lnTo>
                  <a:lnTo>
                    <a:pt x="336" y="0"/>
                  </a:lnTo>
                  <a:lnTo>
                    <a:pt x="576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962520" y="52578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9480" y="563760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ahoma"/>
              </a:rPr>
              <a:t>Non-uniform sc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ifferent scalars per compon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ow can we represent this in matrix for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449360" y="213840"/>
            <a:ext cx="73058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09480" y="2514600"/>
            <a:ext cx="8000640" cy="2743200"/>
            <a:chOff x="609480" y="2514600"/>
            <a:chExt cx="8000640" cy="2743200"/>
          </a:xfrm>
        </p:grpSpPr>
        <p:grpSp>
          <p:nvGrpSpPr>
            <p:cNvPr id="198" name=""/>
            <p:cNvGrpSpPr/>
            <p:nvPr/>
          </p:nvGrpSpPr>
          <p:grpSpPr>
            <a:xfrm>
              <a:off x="609480" y="2514600"/>
              <a:ext cx="3048120" cy="2743200"/>
              <a:chOff x="609480" y="2514600"/>
              <a:chExt cx="3048120" cy="2743200"/>
            </a:xfrm>
          </p:grpSpPr>
          <p:sp>
            <p:nvSpPr>
              <p:cNvPr id="199" name=""/>
              <p:cNvSpPr/>
              <p:nvPr/>
            </p:nvSpPr>
            <p:spPr>
              <a:xfrm>
                <a:off x="990720" y="251460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9480" y="4952880"/>
                <a:ext cx="304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5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0020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0512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096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1460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1952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2900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14400" y="464796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14400" y="43434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14400" y="40384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14400" y="373356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14400" y="34290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14400" y="31240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914400" y="281916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14400" y="25146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600200" y="3581280"/>
              <a:ext cx="914400" cy="1066680"/>
              <a:chOff x="1600200" y="3581280"/>
              <a:chExt cx="914400" cy="1066680"/>
            </a:xfrm>
          </p:grpSpPr>
          <p:sp>
            <p:nvSpPr>
              <p:cNvPr id="218" name=""/>
              <p:cNvSpPr/>
              <p:nvPr/>
            </p:nvSpPr>
            <p:spPr>
              <a:xfrm>
                <a:off x="1752480" y="3581280"/>
                <a:ext cx="15264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0" y="144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1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600200" y="3962160"/>
                <a:ext cx="914400" cy="685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600200" y="3657240"/>
                <a:ext cx="914400" cy="304920"/>
              </a:xfrm>
              <a:custGeom>
                <a:avLst/>
                <a:gdLst/>
                <a:ahLst/>
                <a:rect l="l" t="t" r="r" b="b"/>
                <a:pathLst>
                  <a:path w="576" h="192">
                    <a:moveTo>
                      <a:pt x="0" y="192"/>
                    </a:moveTo>
                    <a:lnTo>
                      <a:pt x="240" y="0"/>
                    </a:lnTo>
                    <a:lnTo>
                      <a:pt x="336" y="0"/>
                    </a:lnTo>
                    <a:lnTo>
                      <a:pt x="576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181480" y="2514600"/>
              <a:ext cx="3048120" cy="2743200"/>
              <a:chOff x="5181480" y="2514600"/>
              <a:chExt cx="3048120" cy="2743200"/>
            </a:xfrm>
          </p:grpSpPr>
          <p:sp>
            <p:nvSpPr>
              <p:cNvPr id="222" name=""/>
              <p:cNvSpPr/>
              <p:nvPr/>
            </p:nvSpPr>
            <p:spPr>
              <a:xfrm>
                <a:off x="5562720" y="251460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81480" y="4952880"/>
                <a:ext cx="304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867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17220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47712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816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8660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39152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696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00100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86400" y="464796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86400" y="43434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86400" y="40384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6400" y="373356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86400" y="34290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86400" y="31240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86400" y="281916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86400" y="25146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781680" y="4270320"/>
              <a:ext cx="1828440" cy="530280"/>
              <a:chOff x="6781680" y="4270320"/>
              <a:chExt cx="1828440" cy="530280"/>
            </a:xfrm>
          </p:grpSpPr>
          <p:sp>
            <p:nvSpPr>
              <p:cNvPr id="241" name=""/>
              <p:cNvSpPr/>
              <p:nvPr/>
            </p:nvSpPr>
            <p:spPr>
              <a:xfrm>
                <a:off x="7085880" y="4270320"/>
                <a:ext cx="304920" cy="1134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0" y="144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14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81680" y="4459680"/>
                <a:ext cx="1828440" cy="340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1680" y="4307760"/>
                <a:ext cx="1828440" cy="151560"/>
              </a:xfrm>
              <a:custGeom>
                <a:avLst/>
                <a:gdLst/>
                <a:ahLst/>
                <a:rect l="l" t="t" r="r" b="b"/>
                <a:pathLst>
                  <a:path w="576" h="192">
                    <a:moveTo>
                      <a:pt x="0" y="192"/>
                    </a:moveTo>
                    <a:lnTo>
                      <a:pt x="240" y="0"/>
                    </a:lnTo>
                    <a:lnTo>
                      <a:pt x="336" y="0"/>
                    </a:lnTo>
                    <a:lnTo>
                      <a:pt x="576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3962520" y="3733920"/>
              <a:ext cx="761760" cy="3808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69920" y="4113360"/>
              <a:ext cx="117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9360" y="213840"/>
            <a:ext cx="73058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ing ope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, in matrix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19720" y="2133720"/>
                <a:ext cx="21636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424400" y="4114800"/>
                <a:ext cx="32716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 rot="16200000">
            <a:off x="6210360" y="50670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68960" y="579024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a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9360" y="213840"/>
            <a:ext cx="73058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-D R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143360" y="1523160"/>
            <a:ext cx="4876200" cy="4496760"/>
            <a:chOff x="1143360" y="1523160"/>
            <a:chExt cx="4876200" cy="4496760"/>
          </a:xfrm>
        </p:grpSpPr>
        <p:sp>
          <p:nvSpPr>
            <p:cNvPr id="254" name=""/>
            <p:cNvSpPr/>
            <p:nvPr/>
          </p:nvSpPr>
          <p:spPr>
            <a:xfrm>
              <a:off x="2134080" y="1981080"/>
              <a:ext cx="152280" cy="152640"/>
            </a:xfrm>
            <a:prstGeom prst="ellipse">
              <a:avLst/>
            </a:prstGeom>
            <a:solidFill>
              <a:srgbClr val="ffcf0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43360" y="1600200"/>
              <a:ext cx="0" cy="441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43360" y="6019920"/>
              <a:ext cx="487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03280" y="3594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143360" y="3733920"/>
              <a:ext cx="297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226880" y="2229120"/>
              <a:ext cx="879840" cy="364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4120" y="4771440"/>
              <a:ext cx="497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45680" y="2971080"/>
              <a:ext cx="1280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x, y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50000" y="1523160"/>
              <a:ext cx="16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x’, y’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376880" y="4343040"/>
            <a:ext cx="4690800" cy="1191240"/>
          </a:xfrm>
          <a:prstGeom prst="rect">
            <a:avLst/>
          </a:prstGeom>
          <a:solidFill>
            <a:srgbClr val="9999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’ = x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- 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’ = x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+ 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9360" y="213840"/>
            <a:ext cx="73058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-D R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5662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his is easy to capture in matrix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ven though sin(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) and cos(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) are nonlinear functions o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’ is a linear combination of x and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’ is a linear combination of x and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327400" y="2741760"/>
                <a:ext cx="44863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05:31:49Z</dcterms:created>
  <dc:creator>Quazi Abidur Rahman</dc:creator>
  <dc:description/>
  <dc:language>en-US</dc:language>
  <cp:lastModifiedBy>Administrator</cp:lastModifiedBy>
  <dcterms:modified xsi:type="dcterms:W3CDTF">2010-02-19T11:20:48Z</dcterms:modified>
  <cp:revision>85</cp:revision>
  <dc:subject/>
  <dc:title>Slide 1</dc:title>
</cp:coreProperties>
</file>