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09680" y="2728440"/>
            <a:ext cx="60962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2096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cture 25 : Iter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Iterator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4 of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71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istIterator&lt;T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ur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ry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istIterator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s a position marker known as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s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the list has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lements, they are numbered by indices 0 through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, but there a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1 cursor posi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next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invoked, the element immediately following the cursor position is returned and the cursor is moved forward one cursor po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revious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invoked, the element immediately before the cursor position is returned and the cursor is moved back one cursor po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Iterator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ursor Pos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38080" y="1600200"/>
            <a:ext cx="7772400" cy="246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90720" y="2286000"/>
          <a:ext cx="7353360" cy="189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286000"/>
                    <a:ext cx="735336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Itera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1527120"/>
          <a:ext cx="7382160" cy="444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527120"/>
                    <a:ext cx="73821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text from System.in and breaks it up into individual words. Insert the words into a linked list. Then remove all words that contain the letter ‘a’. Print all the words of the obtained list as well as its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vi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Return a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etically, when an iterator operation returns an element of the collection, it might return a copy or clone of the element, or it might return a reference to the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ors for the standard predefined collection classes, such a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ashSet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ctually return refer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fore, modifying the returned value will modify the element in the coll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2438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19560" y="268200"/>
            <a:ext cx="492444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4213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or Returns a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:  Defining Your Own Iterator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is usually little need for a programmer define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terator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istIterator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asiest and most common way to define a collection class is to make it a derived class of one of the library collection cla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doing this, 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iterator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listIterator(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thods automatically become available to the prog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a collection class must be defined in some other way, then an iterator class should be defined as an inner class of the collection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terator is an object that is used with a collection to provide sequential access to the collection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access allows examination and possible modification of the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terator imposes an ordering on the elements of a collection even if the collection itself does not impose any order on the elements it cont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collection does impose an ordering on its elements, then the iterator will use the same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:  For-Each Loops as It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it is not an iterator, a for-each loop can serve the same purpose as an it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or-each loop can be used to cycle through each element in a col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-each loops can be used with any of the collections discussed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-Each Loops as It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60560" y="1143000"/>
            <a:ext cx="446868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terator&lt;T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provides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terator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object of any class that satisfies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terator&lt;T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face is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terator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terator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stand on its 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must be associated with some collection object using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t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n instance of a collection class (e.g.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Vector&lt;String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 the following obtains an iterator fo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Iterator iteratorForC = c.iterator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terator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02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terator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2 of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28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istIterator&lt;T&g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istIterator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 extend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terator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, and is designed to work with collections that satisfy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ist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istIterator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s all the methods that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terator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s, plus additiona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istIterator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n move in either direction along a list of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istIterator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s methods, such a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at can be used to modify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Iterator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1 of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45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Iterator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2 of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17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Iterator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3 of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Administrator</cp:lastModifiedBy>
  <dcterms:modified xsi:type="dcterms:W3CDTF">2010-10-01T11:50:42Z</dcterms:modified>
  <cp:revision>48</cp:revision>
  <dc:subject/>
  <dc:title>PowerPoint Presentation</dc:title>
</cp:coreProperties>
</file>