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519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80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617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519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80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447920" y="213840"/>
            <a:ext cx="7307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519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80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7617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519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80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447920" y="213840"/>
            <a:ext cx="7307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5"/>
          <p:cNvSpPr/>
          <p:nvPr/>
        </p:nvSpPr>
        <p:spPr>
          <a:xfrm>
            <a:off x="5263200" y="5410080"/>
            <a:ext cx="343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s prepared by Rose Williams,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Binghamton Universit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038480" y="5486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5"/>
          <p:cNvSpPr/>
          <p:nvPr/>
        </p:nvSpPr>
        <p:spPr>
          <a:xfrm>
            <a:off x="5270400" y="5321160"/>
            <a:ext cx="3429000" cy="482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2133720" y="2184480"/>
            <a:ext cx="6400800" cy="13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CS201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cture 5 : Abstract Class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Text Box 17"/>
          <p:cNvSpPr/>
          <p:nvPr/>
        </p:nvSpPr>
        <p:spPr>
          <a:xfrm>
            <a:off x="1219320" y="1522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ng Fahd University of Petroleum &amp; Miner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ge of Computer Science &amp; Engine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Rectangle 18"/>
          <p:cNvSpPr/>
          <p:nvPr/>
        </p:nvSpPr>
        <p:spPr>
          <a:xfrm>
            <a:off x="2592720" y="1295280"/>
            <a:ext cx="50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tion &amp; Computer Science Depart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1760" y="159336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bstract class can have any number of abstract and/or fully defined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 derived class of an abstract class adds to or does not define all of the abstract methods, then it is abstract also, and must ad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bstract</a:t>
            </a:r>
            <a:r>
              <a:rPr b="0" lang="en-US" sz="24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its mod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ss that has no abstract methods is called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ncrete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tfall:  You Cannot Create Instances of an Abstract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bstract class can only be used to derive more specialized cla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le it may be useful to discuss employees in general, in reality an employee must be a salaried worker or an hourly work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bstract class constructor cannot be used to create an object of the abstract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ever, a derived class constructor will include an invocation of the abstract class constructor in the form of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up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p:  An Abstract Class Is a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an object of an abstract class cannot be created, it is perfectly fine to have a parameter of an abstract class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makes it possible to plug in an object of any of its descendent cla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also fine to use a variable of an abstract class type, as long is it names objects of its concrete descendent classes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3574800" y="2666880"/>
            <a:ext cx="210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e en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0" name="Object 5"/>
          <p:cNvGraphicFramePr/>
          <p:nvPr/>
        </p:nvGraphicFramePr>
        <p:xfrm>
          <a:off x="7238880" y="4419720"/>
          <a:ext cx="1905120" cy="1487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38880" y="4419720"/>
                    <a:ext cx="190512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Text Box 6"/>
          <p:cNvSpPr/>
          <p:nvPr/>
        </p:nvSpPr>
        <p:spPr>
          <a:xfrm>
            <a:off x="228600" y="4249800"/>
            <a:ext cx="7086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rtant to do at home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read chapter 8 pages 532-53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8367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duction to abstract cl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3" name="Object 7"/>
          <p:cNvGraphicFramePr/>
          <p:nvPr/>
        </p:nvGraphicFramePr>
        <p:xfrm>
          <a:off x="0" y="3875040"/>
          <a:ext cx="3270240" cy="15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75040"/>
                    <a:ext cx="3270240" cy="15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Object 10"/>
          <p:cNvGraphicFramePr/>
          <p:nvPr/>
        </p:nvGraphicFramePr>
        <p:xfrm>
          <a:off x="6013440" y="3875040"/>
          <a:ext cx="3130560" cy="17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3440" y="3875040"/>
                    <a:ext cx="3130560" cy="17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" name="Group 13"/>
          <p:cNvGrpSpPr/>
          <p:nvPr/>
        </p:nvGrpSpPr>
        <p:grpSpPr>
          <a:xfrm>
            <a:off x="2521080" y="2645280"/>
            <a:ext cx="880920" cy="1089000"/>
            <a:chOff x="2521080" y="2645280"/>
            <a:chExt cx="880920" cy="1089000"/>
          </a:xfrm>
        </p:grpSpPr>
        <p:sp>
          <p:nvSpPr>
            <p:cNvPr id="88" name="AutoShape 14"/>
            <p:cNvSpPr/>
            <p:nvPr/>
          </p:nvSpPr>
          <p:spPr>
            <a:xfrm rot="2270400">
              <a:off x="3101040" y="2674080"/>
              <a:ext cx="215280" cy="3531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Line 15"/>
            <p:cNvSpPr/>
            <p:nvPr/>
          </p:nvSpPr>
          <p:spPr>
            <a:xfrm flipH="1">
              <a:off x="2521080" y="2989800"/>
              <a:ext cx="578520" cy="74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0" name="Group 16"/>
          <p:cNvGrpSpPr/>
          <p:nvPr/>
        </p:nvGrpSpPr>
        <p:grpSpPr>
          <a:xfrm>
            <a:off x="5841720" y="2648160"/>
            <a:ext cx="881640" cy="1089360"/>
            <a:chOff x="5841720" y="2648160"/>
            <a:chExt cx="881640" cy="1089360"/>
          </a:xfrm>
        </p:grpSpPr>
        <p:sp>
          <p:nvSpPr>
            <p:cNvPr id="91" name="AutoShape 17"/>
            <p:cNvSpPr/>
            <p:nvPr/>
          </p:nvSpPr>
          <p:spPr>
            <a:xfrm flipH="1" rot="19329600">
              <a:off x="5927040" y="2676960"/>
              <a:ext cx="215640" cy="35352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" name="Line 18"/>
            <p:cNvSpPr/>
            <p:nvPr/>
          </p:nvSpPr>
          <p:spPr>
            <a:xfrm>
              <a:off x="6144840" y="2992680"/>
              <a:ext cx="578520" cy="74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aphicFrame>
        <p:nvGraphicFramePr>
          <p:cNvPr id="93" name="Object 20"/>
          <p:cNvGraphicFramePr/>
          <p:nvPr/>
        </p:nvGraphicFramePr>
        <p:xfrm>
          <a:off x="3328920" y="1109520"/>
          <a:ext cx="2662200" cy="147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" name="Object 2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28920" y="1109520"/>
                    <a:ext cx="2662200" cy="14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367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duction to abstract cl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6" name="Object 4"/>
          <p:cNvGraphicFramePr/>
          <p:nvPr/>
        </p:nvGraphicFramePr>
        <p:xfrm>
          <a:off x="0" y="4441680"/>
          <a:ext cx="3933720" cy="192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441680"/>
                    <a:ext cx="3933720" cy="19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Object 5"/>
          <p:cNvGraphicFramePr/>
          <p:nvPr/>
        </p:nvGraphicFramePr>
        <p:xfrm>
          <a:off x="5334120" y="4441680"/>
          <a:ext cx="3809880" cy="2111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4441680"/>
                    <a:ext cx="3809880" cy="21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Group 6"/>
          <p:cNvGrpSpPr/>
          <p:nvPr/>
        </p:nvGrpSpPr>
        <p:grpSpPr>
          <a:xfrm>
            <a:off x="2284200" y="3279960"/>
            <a:ext cx="881280" cy="1089360"/>
            <a:chOff x="2284200" y="3279960"/>
            <a:chExt cx="881280" cy="1089360"/>
          </a:xfrm>
        </p:grpSpPr>
        <p:sp>
          <p:nvSpPr>
            <p:cNvPr id="101" name="AutoShape 7"/>
            <p:cNvSpPr/>
            <p:nvPr/>
          </p:nvSpPr>
          <p:spPr>
            <a:xfrm rot="2270400">
              <a:off x="2864160" y="3308760"/>
              <a:ext cx="215280" cy="35352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" name="Line 8"/>
            <p:cNvSpPr/>
            <p:nvPr/>
          </p:nvSpPr>
          <p:spPr>
            <a:xfrm flipH="1">
              <a:off x="2284200" y="3624480"/>
              <a:ext cx="578520" cy="74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3" name="Group 9"/>
          <p:cNvGrpSpPr/>
          <p:nvPr/>
        </p:nvGrpSpPr>
        <p:grpSpPr>
          <a:xfrm>
            <a:off x="6046560" y="3380040"/>
            <a:ext cx="881640" cy="1089360"/>
            <a:chOff x="6046560" y="3380040"/>
            <a:chExt cx="881640" cy="1089360"/>
          </a:xfrm>
        </p:grpSpPr>
        <p:sp>
          <p:nvSpPr>
            <p:cNvPr id="104" name="AutoShape 10"/>
            <p:cNvSpPr/>
            <p:nvPr/>
          </p:nvSpPr>
          <p:spPr>
            <a:xfrm flipH="1" rot="19329600">
              <a:off x="6131880" y="3408840"/>
              <a:ext cx="215640" cy="35352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Line 11"/>
            <p:cNvSpPr/>
            <p:nvPr/>
          </p:nvSpPr>
          <p:spPr>
            <a:xfrm>
              <a:off x="6349680" y="3724560"/>
              <a:ext cx="578520" cy="74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6" name="Text Box 15"/>
          <p:cNvSpPr/>
          <p:nvPr/>
        </p:nvSpPr>
        <p:spPr>
          <a:xfrm>
            <a:off x="473040" y="1754280"/>
            <a:ext cx="231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ppose the method samePay is added 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281160" y="2940120"/>
            <a:ext cx="24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 there any problem 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8" name="Object 17"/>
          <p:cNvGraphicFramePr/>
          <p:nvPr/>
        </p:nvGraphicFramePr>
        <p:xfrm>
          <a:off x="2944800" y="1135080"/>
          <a:ext cx="4395960" cy="2352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" name="Object 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44800" y="1135080"/>
                    <a:ext cx="4395960" cy="23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duction to Abstract Cl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are several problems with this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getPa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thod is invoked in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amePay</a:t>
            </a:r>
            <a:r>
              <a:rPr b="0" lang="en-US" sz="20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re ar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getPa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thods in each of the derived cla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re is no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getPa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thod in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ss, nor is there any way to define it reasonably without knowing whether the employee is hourly or salari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duction to Abstract Cl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ideal situation would be if there were a way t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pone the definition of a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getPay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 until the type of the employee were known (i.e., in the derived class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ave some kind of note in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lass to indicate that it was accounted f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rprisingly, Java allows this using abstract classes and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duction to Abstract Cl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order to postpone the definition of a method, Java allows a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bstract metho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be decl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bstract method has a heading, but no method 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body of the method is defined in the derived cla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lass that contains an abstract method is called a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bstract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bstract method is like a placeholder for a method that will be fully defined in a descendent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has a complete method heading, to which has been added the modifier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cannot be priv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has no method body, and ends with a semicolon in place of its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abstract double getPay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abstract void doIt(int cou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ass that has at least one abstract method is called a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bstract cl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 abstract class must have the modifier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abstra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ncluded in its class heading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34ca1"/>
                </a:solidFill>
                <a:latin typeface="Courier New"/>
              </a:rPr>
              <a:t>public abstract class Employe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34ca1"/>
                </a:solidFill>
                <a:latin typeface="Courier New"/>
              </a:rPr>
              <a:t>private </a:t>
            </a:r>
            <a:r>
              <a:rPr b="1" i="1" lang="en-US" sz="1400" spc="-1" strike="noStrike">
                <a:solidFill>
                  <a:srgbClr val="034ca1"/>
                </a:solidFill>
                <a:latin typeface="Courier New"/>
              </a:rPr>
              <a:t>instanceVariables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34ca1"/>
                </a:solidFill>
                <a:latin typeface="Courier New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34ca1"/>
                </a:solidFill>
                <a:latin typeface="Courier New"/>
              </a:rPr>
              <a:t>public abstract double getPay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34ca1"/>
                </a:solidFill>
                <a:latin typeface="Courier New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34ca1"/>
                </a:solidFill>
                <a:latin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Object 4"/>
          <p:cNvGraphicFramePr/>
          <p:nvPr/>
        </p:nvGraphicFramePr>
        <p:xfrm>
          <a:off x="2771640" y="1152360"/>
          <a:ext cx="3727440" cy="228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1152360"/>
                    <a:ext cx="3727440" cy="22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5"/>
          <p:cNvGraphicFramePr/>
          <p:nvPr/>
        </p:nvGraphicFramePr>
        <p:xfrm>
          <a:off x="0" y="4441680"/>
          <a:ext cx="3270240" cy="159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441680"/>
                    <a:ext cx="3270240" cy="15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6"/>
          <p:cNvGraphicFramePr/>
          <p:nvPr/>
        </p:nvGraphicFramePr>
        <p:xfrm>
          <a:off x="6013440" y="4441680"/>
          <a:ext cx="3130560" cy="17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13440" y="4441680"/>
                    <a:ext cx="3130560" cy="17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" name="Group 7"/>
          <p:cNvGrpSpPr/>
          <p:nvPr/>
        </p:nvGrpSpPr>
        <p:grpSpPr>
          <a:xfrm>
            <a:off x="2284200" y="3279960"/>
            <a:ext cx="881280" cy="1089360"/>
            <a:chOff x="2284200" y="3279960"/>
            <a:chExt cx="881280" cy="1089360"/>
          </a:xfrm>
        </p:grpSpPr>
        <p:sp>
          <p:nvSpPr>
            <p:cNvPr id="127" name="AutoShape 8"/>
            <p:cNvSpPr/>
            <p:nvPr/>
          </p:nvSpPr>
          <p:spPr>
            <a:xfrm rot="2270400">
              <a:off x="2864160" y="3308760"/>
              <a:ext cx="215280" cy="35352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Line 9"/>
            <p:cNvSpPr/>
            <p:nvPr/>
          </p:nvSpPr>
          <p:spPr>
            <a:xfrm flipH="1">
              <a:off x="2284200" y="3624480"/>
              <a:ext cx="578520" cy="74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9" name="Group 10"/>
          <p:cNvGrpSpPr/>
          <p:nvPr/>
        </p:nvGrpSpPr>
        <p:grpSpPr>
          <a:xfrm>
            <a:off x="6046560" y="3380040"/>
            <a:ext cx="881640" cy="1089360"/>
            <a:chOff x="6046560" y="3380040"/>
            <a:chExt cx="881640" cy="1089360"/>
          </a:xfrm>
        </p:grpSpPr>
        <p:sp>
          <p:nvSpPr>
            <p:cNvPr id="130" name="AutoShape 11"/>
            <p:cNvSpPr/>
            <p:nvPr/>
          </p:nvSpPr>
          <p:spPr>
            <a:xfrm flipH="1" rot="19329600">
              <a:off x="6131880" y="3408840"/>
              <a:ext cx="215640" cy="35352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Line 12"/>
            <p:cNvSpPr/>
            <p:nvPr/>
          </p:nvSpPr>
          <p:spPr>
            <a:xfrm>
              <a:off x="6349680" y="3724560"/>
              <a:ext cx="578520" cy="74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2" name="Rectangle 13"/>
          <p:cNvSpPr/>
          <p:nvPr/>
        </p:nvSpPr>
        <p:spPr>
          <a:xfrm>
            <a:off x="1447920" y="214200"/>
            <a:ext cx="730728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 ver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3T15:49:24Z</dcterms:created>
  <dc:creator>Copyright 2004 Pearson Addison-Wesley</dc:creator>
  <dc:description/>
  <cp:keywords/>
  <dc:language>en-US</dc:language>
  <cp:lastModifiedBy>CoreI5</cp:lastModifiedBy>
  <dcterms:modified xsi:type="dcterms:W3CDTF">2012-02-10T07:52:55Z</dcterms:modified>
  <cp:revision>66</cp:revision>
  <dc:subject/>
  <dc:title>PowerPoint Presentation</dc:title>
</cp:coreProperties>
</file>